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8DE8-8091-49EA-A73A-8A6674F04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9944-7DC2-4ACB-AC54-292032E4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40D3FF-B6F3-4A9A-8FFC-C2182FFD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99B991-B62A-4A09-B55D-E5E60653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B07EEF-3735-479A-B9C3-EA8602DD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41277E-61DC-41C6-9913-36DF733C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3DB633-0D89-4157-8F2F-466FF3D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A4A126-8E7F-4400-983C-86D012F2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0B4400-289E-470B-B832-9ED3652B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B71ACC-B25C-4EE2-A3AA-1C939EF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539814-73CC-4FF4-BAEE-EEE44EA22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80BC0-0798-4696-B5D9-30034838E2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38BC-CB94-4C50-92A5-A7D92ADC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66524-AFCA-481D-A6EC-5967AF78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CC0FF-6743-4EAD-9ADA-D8850590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B08AF-1C11-4C48-93B4-E2DD076B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9A318-0104-4A03-9D01-C362D8D8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25547-6414-46EC-853B-7342FD82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FD232-F3FB-4B9F-BA83-F3468CC7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7370-3960-4B27-9B97-FD3FB36F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62B77-8566-4096-A42B-C4BEABB3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70ECF-4CBD-4BC2-A8F5-FF68D6AF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04F4-4DDC-413C-A06C-DD8ACC16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88CE-2AAB-4E76-B2E4-4A96231E13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309D5-583D-4FB8-BB62-7D2DBD762E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50F473-114A-470D-B4B2-15EBAC6AA7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5FBDCC-F09F-4968-BE14-464C1E1A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9F5A3E-E692-40EF-B334-FB87E686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23AA6C-D4CD-4A35-97DA-9FCD940D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02697-302A-4C3C-A77B-72936CA6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EC4AC-143F-4214-BB13-A32BFFAC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1C42C0-4B81-41D5-AD3B-C0BDDB2F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4709BA-0E08-42DC-96E0-F325DB58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31E71-051E-4035-B763-B546CA0C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8E0C5-F29B-4FB2-A0F3-812FDC958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AD61E0-B766-4B0C-BC98-46E310B2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D46420-1807-4969-93B6-C6713F8C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BCD348-6BCD-4096-B709-7BB05ECA4C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9BCD2-89FA-480E-BAA8-1B55C79FA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9D839-9AC5-4FD7-8631-A04F2A94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1B7EA5-6FB0-407F-ACB5-ACD0C0A6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D29F4-ACDE-4CDA-A0CC-6EC40CCD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0EFC8-FD60-4915-A40A-FF3A7CC3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EAB7E-9C88-4B75-AE54-4FCFA1D6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90B6A-1F05-4061-955E-ABC0B1ED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9858A-3892-48F2-8D57-F480EB02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017A2-403C-4F36-9931-71DC38D9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B5FC4-F5EE-425F-87DD-2F225B8E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1C931-C9A4-44D5-980F-20EAACF5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ABE9F-979F-41F1-9DE7-8FB2B1B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D987D-A030-4F37-819D-15C97D006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34385-CD0E-44E6-88C6-4F274E225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1481A-1345-4240-8B48-DC783EA6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7ACC1-A3EE-4B79-854F-B01BF5CD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E2865-7D55-42F4-8E9E-3EF9E00A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667D7-7D07-4C71-B3F3-894B7F81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8D658-EC56-486D-8367-AB3BAD13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9D4E5-7356-48B2-9363-08F4890C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00C5E-6DFD-4D2F-AB1D-F1FDA3EF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433BD-7957-4E16-934A-9827BE13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44183-A812-436E-A440-EFE94526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A0794-0754-4F8E-BD98-52E8AA79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42DF9-341C-48E5-B798-0336C921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A62FF-B593-4149-BF93-04E987F5C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628766-23F7-4FD1-B266-0D4D054673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F44262-3C14-4FD8-B26F-5D39307C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8B32F9-03EA-4C75-B639-BA18468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97E26-C1DE-4C28-8568-CAC2E74E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E0283A-59FC-4E0E-97B4-248BCEE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126FC5-B65E-4FE7-B55F-01761585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43BF7B-3E48-4D6D-8FDE-E487BF02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23576A-5B07-421A-85B7-8CAA3EB3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3616B1-C59D-44AB-A840-3BE8E902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C8599A-9E3F-4BEF-ACBC-08699E49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966D03-F096-4C61-AF85-469D8F50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3E6CA5-040F-4A41-9A6C-C58D8422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A9DE4B-64DD-47D4-B4E3-87B1A94EBA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F564A6-F9FC-446D-BAD0-09560D71A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1244F-05ED-499F-B4B1-9AE1C485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822F60-5F67-481C-A791-72207523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14E74B-AA92-4B9B-82DF-075CA495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2CB434-C5C6-43A0-8EF1-A91598D4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3FBF6C-1234-4604-8A1E-C9F3441D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20AC8E-2985-45BD-8A12-B7CDD446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652C69-54CF-4607-A1EA-9EDB8735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F5F346-2260-4F3A-99A1-78F8F9C8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20F047-F5A3-4493-BD65-CEF8C4B4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B4936B-8B42-4C16-A424-508F4CA3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3C2E27-D44D-4727-B9A1-8F2A8FF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81610-5D09-46C6-83B4-33B11104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BB7D5B-2350-4B3B-ACCE-A7C6D69740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D3707-417E-4F8C-AA18-E86D4080D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94F9E-8507-4069-B399-93356E7C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51357-F519-49DB-B35D-6D651DE3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E0B90-E01B-4EC2-B974-734E181D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CD840-21FC-4F66-94B7-9D79D85E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7AB75-3A98-4A3B-8B56-15018996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C50FF-1FE3-48B7-84FF-FA8E3911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2BECF-9205-4C49-AD7D-0DCBDB4F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0AA80-E44A-47D1-9F71-4AE5277F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DE811-B57E-4EB5-BA10-4273F89B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71168-5381-4156-BF06-2479059D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C3032-7CB4-48EA-8F53-E3E540AD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D3AF3-721E-4A0B-B62D-9F32D6C4E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69797E-0B49-477C-9718-66D61FB64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49F9B9-1172-40E2-9673-2800CF69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06A0C2-5F6A-4E74-9717-3B1EAF7A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38076F-145A-4443-8612-99533E4D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80D7CB-3E7F-42C5-9053-246BC2F0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D760B3-B9F6-412B-B44F-5FD4BBBD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853279-47DE-477C-B0CF-4076150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F19B-6185-44D4-8A16-09004AF4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0938D-D998-4703-B930-97CC9B06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46D5D2-312D-4851-A4DC-1EAA67C9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C74C6C-75B3-40FD-A689-5AF47A98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24B30F-F5DD-43B3-960B-789EE762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4AF65D-9BB1-4D4A-AEE5-F739573D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3F6534-BE4F-4D5D-BE4B-9FBF452943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2808BB-480C-4CD8-A2FC-7BC3E49D87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4B70D5-5716-4AF4-AD3B-148F4BC5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AAC5E1-19CA-453B-B1A7-1463E921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8ACFB0-02C5-4892-86DE-DF77F9A3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967676-2164-4D22-8244-C1E9B56C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19E88-0A25-4595-8D8C-171CA541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3F58DD-C7B0-41C8-B685-275A0CC2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40122C-CDD0-4D05-8A2E-B6D017E7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7399AA-0DE3-4E74-84FF-8D0005A5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4D376D-13F4-48AC-B813-13E3077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9059D0-8B10-4E30-BFCB-2FECD7AA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71EB43-8898-4676-8E77-2D2FA050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630FE8-9AB1-4ED6-9A50-F4E7E98F7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0AE8A-E3B4-484D-AAF9-26AB512AE1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161CF-7E1E-4A0F-8ADD-3B7851FE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4F859-36F3-416E-825B-7CEFAA8D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01666-4142-4C19-824B-3BBF55DE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0FC1E-9C16-4CEB-A30E-3397FCFE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12293-BEFC-4C6F-AFD7-6F451F4B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0C92B-AAF8-484B-9CA6-893536B0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D939D-A526-44A2-B323-2EBF31E9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F8893-4150-49E0-8E46-5A8B7D34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32DF6-3C67-46D3-8261-B4C81B3B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C344F-CFEF-4402-86A2-C045D497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34002-4EAC-48B9-98CB-113D07ED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32F8F-C362-4E7D-9818-3566A9970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056A64-960A-4109-8B7F-42D621CACD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1E1F8-18E8-4A4E-83A1-5B45A95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203B83-7EAA-480B-BC88-10CCD4DC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FD59BC-E85B-4B59-9111-660E0C1C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CDB4C1-4B9D-4BB3-AB8E-67BCEBA6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2AD780-9D85-44E2-82A5-DB8AAFCA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FD0806-EB8B-423B-BA0F-74516128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F3108C-0928-4109-8D8E-AB1151E5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E6B3DF-69D7-4220-BD9F-E0F3428A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F0EE32-53DC-48A9-9109-3BD3DB23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433688-16E5-437C-B5CE-50796DE0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B0E458-5FAC-44B5-A7DF-3D912819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E127A-8B68-49B1-9E3F-38A322357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FF6A5A-0D3F-4EA6-A1A1-81CD20233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A4D8DF-7C2A-453A-B7B7-421D2A08C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FB91B0-BA03-4C34-BE86-8B8CC1D8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BAD9DC-C911-4D6C-A919-1BEBEDF5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4D7969-B9C4-4311-BD5E-D0CA984D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562894-C01B-4E80-8826-9D947A21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253E5F-1BD2-40CB-9617-F954B324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ECAE7E-025C-44E6-9B9C-D77FB97B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8B6777-91C4-419B-8055-55DA77A9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361025-18EC-4A57-BCFA-9D106E0A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49D8E1-1E10-4692-A524-87026A51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F89E85-1F96-4276-92B9-8473FFD7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BF86AB-AD96-4FDE-BAC6-29016473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CF5658-2DB3-4510-8E89-363C014E0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C58B6-6022-46EA-B063-312E44E6F1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AAEC3-63DD-4F6F-8E7F-D690EDD4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303A5-2F98-4C6E-BD27-B88E0411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4AAF1-CDF6-49E2-8C23-4969F408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3DC84-A49D-47F0-B06C-EA532FEF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B1913-7052-4732-9D5E-0806D5FD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F9B3D-ED10-406A-881A-DA04C75C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34102-FD7E-4AE2-98E7-B0699C1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C34DF-837B-4E47-95F8-7A1CA69D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10F2E-3C68-410E-B14D-E4ED6F01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10DE1-794C-4097-B37E-FB0C28B4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84408-ED1C-4D7C-8998-60CFC8E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2EE6B-D469-49BE-8F70-77EFABC986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6B0769-70C0-41AF-AE2B-B194318E1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101C2D-D172-4DFC-8DAB-3377833F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47AF64-3EC3-41DC-AFBF-FFF97050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75CBB1-C91B-47CA-A4E7-D92515F2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1F1E04-7090-423F-B0BF-340BFA73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C6A0C-3584-4AF1-9057-3CD83FDA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32594C-3D77-4974-8763-FCD25C29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DA719E-7A69-466B-9E1D-8C3BC0C0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EDBA39-5782-47C5-83BD-7EAD2426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ED773A-045C-44E9-ADE1-ECD42B7C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20EC7E-E250-4BA4-80B3-A2B8096F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205AA2-E130-4FA7-9461-4AC389A5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0FBEC4-91FC-4824-938B-03C977F085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AADF3C4-B272-4F6F-856B-2CA4A0EB0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18618D-7AAC-4D88-9058-55C7036F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C2E06A-3258-41DA-885E-8B5AB5AA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0658C-12FE-4A08-AFA5-8A3FC79C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7634E3-8C7C-4E05-8708-7956CF72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44EB41-3FB8-4053-82C3-EA1A29ED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DF5B383-30BD-4F69-94C0-9E76BB1E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41EFB8-0009-4658-A342-A28C23FF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5D23C2-BD0D-4CE2-81B3-77331FA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D068A1-C840-460E-AEC4-6A9B49D1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31944F-D45A-44FC-B9E5-14534FE3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83FBA1-9839-438F-8E00-B2F2DB31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27C506-77F6-4F3D-9C71-4F3C7D781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4B608D-2819-4FBE-AC45-09CD14B79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4018C-3F60-42C4-BF66-A1C8F66D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12A23-ADA8-4398-BA30-F4017325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DBD67-777A-4D5C-894C-0D99D550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42F7A-FBEB-4ABA-B6CF-A87A911F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3F39F3-5CFD-41A3-8844-E199E6A6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8DAF7-7372-479B-B025-CBB26934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FEC42-6805-488F-A4A9-5A350581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53BCD-C757-4276-868B-9C76C51D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DE7B8-BF26-4E5C-AF4A-71568854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E2D490-0959-421E-95DB-10A68363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77B65-0162-4ADA-A566-A7777967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66D14-BEA8-49F0-A845-479F3DE5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FB00C-EE3E-4E69-95BA-A6804F8C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4BE17-94DE-47E1-9729-FACA564F13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8F8ED-0CC5-452A-B53C-7FE9BC1E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1D54F0-00BA-4AAC-BE94-926AD9BC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369AF-BF72-49E3-BC5C-5F9F8B96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B626D-4093-4050-90C7-3A8DF383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E216C5-467D-4899-BDDA-46EFDE6C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AC6FA-9253-412A-B348-811BA64C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87DB34-36D0-41F3-9E9B-48A00B0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ADF74B-F91F-4E3A-9BF0-722249A4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0274E-A861-4A9D-9730-6C350C04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E0AAD1-4DC1-4F04-9599-63B1A1A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002B8-2402-4E8B-9D12-E9A0C57B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4BCCD6-80A7-4442-AA62-D71C2F01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77FA1-D385-4221-B053-37C60DF1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2267A-242E-4962-9554-D80A0A28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CFB1F-3772-459F-8FBA-6B008410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607154-89F6-451A-8CE8-526CC395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6C6BC-1ADB-46B9-AD33-3E5E5F01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258E00-1CBB-4CF4-B9F7-DA8332D3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A2DC1-FAF7-4FB8-8057-F943AB94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AA92CA-70E6-46D6-A723-F8BD1AA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844ACE-1385-4525-9689-27E648E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F1566-4C40-4902-BFE5-FDC8CF96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6D22D-A215-4495-926C-D11F120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AECBD-82D1-4C00-B1E6-8EBB1029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4A08C-2896-46AF-934E-AD60A77D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C7268-6102-4662-974B-F6603492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B244A-4CAF-4E9A-B631-6098BA4D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E0C7C-5C5C-47E5-A6C4-1E9B1951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0B72C-6854-4BE8-B22D-8F248A4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F4AECA-C921-46FC-B278-DD25C28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1D76D0-A5F7-47DF-9351-C359BBC7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FF32AA-C5F8-4BB7-A205-74C69E06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7061F-14BD-4179-9F6C-829A5D90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CD1E88-68C5-49EA-A239-BD83F92D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4C36C-2B1E-4413-BA01-549DC948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4DB90E-D429-48F4-90E4-09A33EB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A3D05C-0CF5-4C3D-8382-0C673EB2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33AC39-D389-4F27-A0F2-F69186CD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1C7D4-75B5-4BD8-9D22-D81A2235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B0AE9-05F0-4C1E-BBA6-D211E775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2697E-052A-4A1C-A964-6D7BF41F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1E7BC-5C34-473C-B19D-4AE1FC80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656AD-C8D5-4834-81AF-25DC4BA3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90D864-E8BA-4B24-9F31-7D21EBAD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0B428E-D177-4AC5-94A5-83670A0D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3070D-C01B-49ED-8B26-040B5CCA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B206A-C842-4FA2-A1FB-AE12696D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3DE3DC-AFD3-4DD2-96F6-B393985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46A87D-7D81-4A0C-AD56-E1E80D0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B9260E-ABAF-4986-A677-DD321BDB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22BB5-6AAC-432A-8021-CF20C700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A777A7-46BC-45CF-8BC0-8892FC56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3BB75A-4E98-46FC-957C-014D8B62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F00B8-A7C1-43A8-8033-F8615865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2C9DA-370F-4647-9BAD-DD5637BC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EF2632-5550-4C59-8583-F395E50D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7E44F-BD2C-48D5-BD49-628AEF8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8CE11D-9F84-40B6-B3AD-966FAEEA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5CC1A9-3D25-424B-93F0-B82BB98E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BEB551-F1A1-4B73-82C0-D6D7889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0397A3-65FA-41DB-BA62-2931E11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5063F-303B-41EA-BCCE-48378E89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2850A-6BA5-477D-8BD2-594F460A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970614-F17C-4539-B0AD-49A4A69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1D840-B496-46C5-A3B6-9922E6C1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9D105B-2BD9-47DE-A4B9-11A64E17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976D86-D7EB-4ECB-BAA3-24449810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16B4A8-B15F-4AEB-A7D6-5D9E2E55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0624B0-F35E-40DA-A94B-605F8F3E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912840-90CD-41AE-9C3D-F6DE8A45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1B37B-43BC-4899-A1E2-37A4DC1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BDF0E1-5A4A-4B85-8D29-570BA3F5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A9A261-CE0A-4F7B-A068-250AA7C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3CD2F3-0627-48B3-A27B-A8C43FB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1122FA-4581-49E1-9C8B-4306E52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EB69-017F-40AE-B1BB-8F658A2FF6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DD5AB8-C0AA-482D-8660-D59EDB09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FB961A-8F3D-4991-BC12-9DF9B643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F48C5C-13A6-4DF4-BDAE-2067E780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550CF9-03BC-4DF8-A947-6C682863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A54D3A-6D7A-43C8-91F6-CC1F3E2B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12E287-EE71-45E3-B48C-DE3D8E97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409F81-9A8F-4C15-9640-1DE8CBB1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A117B3-AE9A-4F83-AE28-9F5CF12F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59A61D-011D-4441-8AC2-419523ED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16BEC0-77F2-466D-B42F-C2B36783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CE28-2518-407F-83C9-DE881712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EC087B-C394-442C-8BFA-8B3CDE1D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87270F-BAB7-4B97-A281-7AFCFB0A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2C7E91-7712-4AA7-8BE2-5D938669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B6D5F3-4346-4482-B58F-DE2036A5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27EC42-9CF7-44A3-9621-02B793DA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DA1275-00D8-43CF-A990-F653C51E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B6BE11-31FC-4477-BC89-BDE4AD51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C54E61-583F-462C-BF56-2382BC38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A5509C-C0A6-4822-A5D7-9301D565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A223EA-A425-4EB5-A919-5E9B2CA0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ADFD-AB82-439E-A112-C27D5DE8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FDCDBA-55B5-4576-B14F-66CE8BDF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D31A91-25BE-47D5-A4F0-4790D972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958A6D-378B-4A53-BDB3-AE917293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2D4DE0-3C17-451A-AD7A-52BFA9D6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58F2A0-11F0-4029-AD6A-DF647818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F3C26D-2A1C-4B9D-9697-476228DB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2ED724-68DD-45FE-88B2-94713AA9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7326A9-7744-436C-9C6A-BE86859A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C91C79-31F9-4061-98C8-C6E6640B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747E0F-5715-4829-92C5-C690DEE1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F693-8AFD-45EA-87E4-16E93CD8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58A4-AB1E-4D37-BE2B-4F70AD42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208851-875E-4A43-8D0E-4295FAAF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BCA013-CA49-4F64-9EFD-EFAE3665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DB673E-F886-4BA8-8355-C9D1312B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18D88C-0914-43AD-BFD1-E38BA3F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A69896-513F-4FA1-B73C-EB74E6F0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520105-3BFA-453C-95D1-8FB1E24A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34E8C-7804-43A7-B7FE-2A99DCA9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404FE9-D569-4A35-A60D-77637722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8027CA-B54C-4803-876C-ED7DD6B7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CC1EE4-89D1-4649-8973-9E77E5F5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53DD-46ED-4218-AC3D-8AB60611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7CA58C-25AB-4069-8F62-A8E87924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8C3DA8-FB2C-4546-B6F1-F63BADD7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68108E-A397-4610-B11F-9AAC9C74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390FB0-289E-4E31-B8D6-0667FA14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E813C9-3501-4808-AE5D-58EF368A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31E806-7977-4FA5-B9A0-1199213A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0DB259-82ED-476A-91CF-47473DE9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3262BC-39B2-4846-B8C2-0C6B6F63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EC2BB2-E944-4D61-8227-A0319713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6264FF-CE7A-4903-8FF3-B8C6E938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08B6-612D-4BD6-846D-943AEACD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753533-233A-4274-83BA-B3F912CD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534ABC-1BDF-405E-8D26-B486D62D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EC6383-35C3-478D-A32E-6908E62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6F6405-82A1-4D3B-ABD2-C9B76DCC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CAD3AE-EFF6-4212-B9A6-7DBD536E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AD4E27-1E4B-46AA-AA29-C3C8153E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9E1BE8-2B1D-46FE-9E2F-99F37646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C4AF31-FBFB-4631-A318-B8D0CD79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B5E647-CF5C-422F-9977-4246311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2F6881-9820-48CF-B270-E48DCD3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7F33-905D-4C90-8FE0-B0E75725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8FA162-ADF7-4A1F-984D-2FF6046A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152FB8-9CA1-46DF-87EC-86B2D751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A8D4FE-C26F-4803-AC77-BCCE0D1A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C83C-4802-45E2-9E2E-5AD68547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10E8-946F-463D-BBF1-0F99BE50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D9EF-3367-4C2F-8936-91D523F1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5D2B-7DB6-4A95-8B5B-510CFC92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6E3D-94DD-4574-A57D-F7F85E942A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8D7C38-545C-438A-96A6-36C9E7F64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C24F-6A54-462B-B6E0-5BC2491B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2D1D67-3AF8-429F-A381-6596553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7ADF06-617D-4FFD-BD45-84FA23C7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3DEAD-4655-4D47-BC02-A6BB4707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C2D09-6E58-4A04-9BED-447B5920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987F9-648F-4543-8A64-8A66795C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FABED-806B-42D2-AD2F-6BE496E3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72FF1-EA0B-471F-B07E-36F410C7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A55E7-3491-4D48-9742-58E9A290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3B26C-3629-44D2-940D-4E0BF1A3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865BBC-F9C6-4305-8628-3A11DCEA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400A-CFE1-4FB7-98E5-AF90A45B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D91BC-4948-472E-94C2-C33B646C5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D91ADA-A712-40C2-9F18-9F5B9397D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32F710-BA7F-40B7-A462-E97907C4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64B8A1-3321-43B7-9632-29CD6632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62743F-B800-4567-8F56-4F35DA79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62E49-C512-4961-B798-B2DA0C20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3B581F-BD22-4180-A74C-DA89FD5E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8FBC87-6869-47C7-AE01-CA53A415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FFFD0F-4032-4BC0-A07D-A371BA91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F8163-C14D-4B2B-9A95-F90456F0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5216B-332F-4EF2-A633-8613E6E2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36111-6FE6-4CD6-9185-953818A3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F937DA-35BD-464D-B071-38F057C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32B9B-3553-436E-9D2F-583DF14E22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3532-CD7F-4E51-A40D-7C60894912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0156-E221-45A8-ACE4-3EAB39B2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89F7-AA13-4E2C-AAF0-64B2981D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32EE5-1E09-4F09-9E1B-743678A8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112A3-4155-4C92-A3BA-7376E107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FE725-D378-44DF-8B6D-364B344C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624E-BC30-4866-94EA-52D0A95C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723C-D22C-4D80-8656-DF3FD19E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10AFD-AC10-4022-8D64-4F1E69FA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9FC65-FC22-4174-BA20-C2AFED66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7AE45-60D8-41B7-B845-9B9B2BB0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11DC-6D63-41EB-8AE3-21231C7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F0B24-85A2-46BC-9799-F866F62267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50C56-0D23-498B-9971-BBB796C14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D8664-5AC5-473D-BCAA-277E6021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B7C57-A8CC-4C66-94E4-82413B4D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02ACB-E8DB-4699-B90E-AFD920E8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74A1B-2099-4A69-A872-D0E79A94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0A98-797E-485A-A6B9-B9878F51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67B1D-9809-452E-B3E8-4C5C2143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A9F7D-FBBB-4CCD-9E4F-1A0C268D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51E63-872D-4E54-B11E-46E7DC76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B5734-AD85-4146-8F0A-AB10AE9B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27343-3C44-4889-A154-D9AF3CF2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57432-5618-4C3A-AF32-9AA9A9D4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70C8A-3797-44FF-8F73-4BCD01C8E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44A6D-5241-464A-AF03-9D88AA60DB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EC99B1-F0B8-4224-8717-62158F0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05DDF5-FE7B-4980-9841-8E9080FD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F95E-6C91-4A5C-BE8E-B8BA7D4E038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0E9B-BF9E-4B9C-A5B5-FDC8D731798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35C0-E2E5-4555-B08F-A7D7191B6E1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C10D-56BD-45BE-B8D6-F2E0D49F1EF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E0B3-B30C-4900-82CF-8BF6BB7D126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3A40-166B-41AF-A792-8C5A228F783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D7F4-27A7-4E69-B536-EF15BCD3406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347E-A6BA-45F3-9410-B69EBBED69A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0D0-AA43-4904-B687-291510C0F62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C21B-F7AB-4765-A97F-259F20B79A0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9FD4-6086-41CF-B721-587AB13381A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FA00-9F90-4F24-81A8-20968329170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5592-2970-4AA9-AF98-AA0A100FC5A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1528-B747-45F7-AF86-9D50A350FAC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0C45-E09C-40D5-A6CB-814FC2B843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4306-C442-428E-AC3E-C694C4FF992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B4F4-E0D9-47E9-984C-8DB12B20FCB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4BFA-0BBE-42CE-9A5E-8F29FE4D29F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10DE-7B08-4449-966C-386E15E751B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4726-21BB-44C1-855E-3D649CF868D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D6F2-2675-4C3A-B5AC-E9060BA926C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EC46-F212-44E9-A9C6-8B76216A610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A2C1-34D6-4761-BE97-D292C1AC6FB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93A2-4883-402A-A957-E248A0E305C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DB1D-88F4-4655-B95E-782A9354402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CF0E-C0B1-4031-9C6C-CE1A8D9607D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3FED-C7CC-4127-8CD7-9BD65F9A27A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9CA4-EDDD-49D1-B36E-DB4DCA2CEB6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6047-B9D4-41E1-BCCA-2DBFCEFDDAB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EE72-1299-40F5-8742-E590E47F7D4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B002-9DCC-4252-9D1C-2C27FD9B6A5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E5EC-7792-4EF1-AA8B-7436698500E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7C38-AB00-4EE8-A59E-94E3D1A0534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40E4-0C50-4A8B-BA58-51DB0DC3F16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DF8-927F-44B4-BCC2-D1B2EF0879A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13C5-BDEA-4921-A0EE-73D942F749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867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867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547640" y="19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倒数的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2"/>
          <p:cNvSpPr/>
          <p:nvPr/>
        </p:nvSpPr>
        <p:spPr>
          <a:xfrm>
            <a:off x="1529280" y="2224440"/>
            <a:ext cx="32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.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倒数是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或（     ）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3" name="TextBox 5"/>
          <p:cNvSpPr/>
          <p:nvPr/>
        </p:nvSpPr>
        <p:spPr>
          <a:xfrm>
            <a:off x="826920" y="15573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出下面各数的倒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04" name="组合 27651"/>
          <p:cNvGrpSpPr/>
          <p:nvPr/>
        </p:nvGrpSpPr>
        <p:grpSpPr>
          <a:xfrm>
            <a:off x="3267000" y="2048040"/>
            <a:ext cx="1892160" cy="815040"/>
            <a:chOff x="3267000" y="2048040"/>
            <a:chExt cx="1892160" cy="815040"/>
          </a:xfrm>
        </p:grpSpPr>
        <p:sp>
          <p:nvSpPr>
            <p:cNvPr id="1805" name="文本框 27652"/>
            <p:cNvSpPr/>
            <p:nvPr/>
          </p:nvSpPr>
          <p:spPr>
            <a:xfrm>
              <a:off x="3267000" y="22287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.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6" name="文本框 27653"/>
            <p:cNvSpPr/>
            <p:nvPr/>
          </p:nvSpPr>
          <p:spPr>
            <a:xfrm>
              <a:off x="4654440" y="2403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7" name="文本框 27654"/>
            <p:cNvSpPr/>
            <p:nvPr/>
          </p:nvSpPr>
          <p:spPr>
            <a:xfrm>
              <a:off x="4647960" y="2048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8" name="直接连接符 27655"/>
            <p:cNvSpPr/>
            <p:nvPr/>
          </p:nvSpPr>
          <p:spPr>
            <a:xfrm>
              <a:off x="4663800" y="246672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09" name="组合 27656"/>
          <p:cNvGrpSpPr/>
          <p:nvPr/>
        </p:nvGrpSpPr>
        <p:grpSpPr>
          <a:xfrm>
            <a:off x="1375920" y="2698920"/>
            <a:ext cx="2551680" cy="815040"/>
            <a:chOff x="1375920" y="2698920"/>
            <a:chExt cx="2551680" cy="815040"/>
          </a:xfrm>
        </p:grpSpPr>
        <p:sp>
          <p:nvSpPr>
            <p:cNvPr id="1810" name="Rectangle 2"/>
            <p:cNvSpPr/>
            <p:nvPr/>
          </p:nvSpPr>
          <p:spPr>
            <a:xfrm>
              <a:off x="1375920" y="2860560"/>
              <a:ext cx="255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倒数是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11" name="组合 27658"/>
            <p:cNvGrpSpPr/>
            <p:nvPr/>
          </p:nvGrpSpPr>
          <p:grpSpPr>
            <a:xfrm>
              <a:off x="1701720" y="2698920"/>
              <a:ext cx="785520" cy="815040"/>
              <a:chOff x="1701720" y="2698920"/>
              <a:chExt cx="785520" cy="815040"/>
            </a:xfrm>
          </p:grpSpPr>
          <p:sp>
            <p:nvSpPr>
              <p:cNvPr id="1812" name="文本框 27659"/>
              <p:cNvSpPr/>
              <p:nvPr/>
            </p:nvSpPr>
            <p:spPr>
              <a:xfrm>
                <a:off x="1982520" y="3054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3" name="文本框 27660"/>
              <p:cNvSpPr/>
              <p:nvPr/>
            </p:nvSpPr>
            <p:spPr>
              <a:xfrm>
                <a:off x="1976400" y="2698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4" name="直接连接符 27661"/>
              <p:cNvSpPr/>
              <p:nvPr/>
            </p:nvSpPr>
            <p:spPr>
              <a:xfrm>
                <a:off x="2001600" y="3117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5" name="文本框 27662"/>
              <p:cNvSpPr/>
              <p:nvPr/>
            </p:nvSpPr>
            <p:spPr>
              <a:xfrm>
                <a:off x="1701720" y="285588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16" name="组合 27663"/>
          <p:cNvGrpSpPr/>
          <p:nvPr/>
        </p:nvGrpSpPr>
        <p:grpSpPr>
          <a:xfrm>
            <a:off x="3568680" y="2657520"/>
            <a:ext cx="504720" cy="815400"/>
            <a:chOff x="3568680" y="2657520"/>
            <a:chExt cx="504720" cy="815400"/>
          </a:xfrm>
        </p:grpSpPr>
        <p:sp>
          <p:nvSpPr>
            <p:cNvPr id="1817" name="文本框 27664"/>
            <p:cNvSpPr/>
            <p:nvPr/>
          </p:nvSpPr>
          <p:spPr>
            <a:xfrm>
              <a:off x="3568680" y="3013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8" name="文本框 27665"/>
            <p:cNvSpPr/>
            <p:nvPr/>
          </p:nvSpPr>
          <p:spPr>
            <a:xfrm>
              <a:off x="3657600" y="2657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9" name="直接连接符 27666"/>
            <p:cNvSpPr/>
            <p:nvPr/>
          </p:nvSpPr>
          <p:spPr>
            <a:xfrm>
              <a:off x="3635280" y="30765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0" name="组合 27667"/>
          <p:cNvGrpSpPr/>
          <p:nvPr/>
        </p:nvGrpSpPr>
        <p:grpSpPr>
          <a:xfrm>
            <a:off x="1285920" y="4807080"/>
            <a:ext cx="8429760" cy="815040"/>
            <a:chOff x="1285920" y="4807080"/>
            <a:chExt cx="8429760" cy="815040"/>
          </a:xfrm>
        </p:grpSpPr>
        <p:sp>
          <p:nvSpPr>
            <p:cNvPr id="1821" name="Rectangle 2"/>
            <p:cNvSpPr/>
            <p:nvPr/>
          </p:nvSpPr>
          <p:spPr>
            <a:xfrm>
              <a:off x="1285920" y="4929120"/>
              <a:ext cx="8429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找        的倒数，先要怎样做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22" name="组合 27669"/>
            <p:cNvGrpSpPr/>
            <p:nvPr/>
          </p:nvGrpSpPr>
          <p:grpSpPr>
            <a:xfrm>
              <a:off x="1882800" y="4807080"/>
              <a:ext cx="785520" cy="815040"/>
              <a:chOff x="1882800" y="4807080"/>
              <a:chExt cx="785520" cy="815040"/>
            </a:xfrm>
          </p:grpSpPr>
          <p:sp>
            <p:nvSpPr>
              <p:cNvPr id="1823" name="文本框 27670"/>
              <p:cNvSpPr/>
              <p:nvPr/>
            </p:nvSpPr>
            <p:spPr>
              <a:xfrm>
                <a:off x="2163600" y="5162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4" name="文本框 27671"/>
              <p:cNvSpPr/>
              <p:nvPr/>
            </p:nvSpPr>
            <p:spPr>
              <a:xfrm>
                <a:off x="2157480" y="4807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5" name="直接连接符 27672"/>
              <p:cNvSpPr/>
              <p:nvPr/>
            </p:nvSpPr>
            <p:spPr>
              <a:xfrm>
                <a:off x="2182680" y="5225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6" name="文本框 27673"/>
              <p:cNvSpPr/>
              <p:nvPr/>
            </p:nvSpPr>
            <p:spPr>
              <a:xfrm>
                <a:off x="1882800" y="49640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27" name="组合 27674"/>
          <p:cNvGrpSpPr/>
          <p:nvPr/>
        </p:nvGrpSpPr>
        <p:grpSpPr>
          <a:xfrm>
            <a:off x="500040" y="4224240"/>
            <a:ext cx="8429760" cy="815040"/>
            <a:chOff x="500040" y="4224240"/>
            <a:chExt cx="8429760" cy="815040"/>
          </a:xfrm>
        </p:grpSpPr>
        <p:sp>
          <p:nvSpPr>
            <p:cNvPr id="1828" name="Rectangle 2"/>
            <p:cNvSpPr/>
            <p:nvPr/>
          </p:nvSpPr>
          <p:spPr>
            <a:xfrm>
              <a:off x="500040" y="4357800"/>
              <a:ext cx="8429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是怎样想的？（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0.8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2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0.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29" name="组合 27676"/>
            <p:cNvGrpSpPr/>
            <p:nvPr/>
          </p:nvGrpSpPr>
          <p:grpSpPr>
            <a:xfrm>
              <a:off x="7805880" y="4224240"/>
              <a:ext cx="511200" cy="815040"/>
              <a:chOff x="7805880" y="4224240"/>
              <a:chExt cx="511200" cy="815040"/>
            </a:xfrm>
          </p:grpSpPr>
          <p:sp>
            <p:nvSpPr>
              <p:cNvPr id="1830" name="文本框 27677"/>
              <p:cNvSpPr/>
              <p:nvPr/>
            </p:nvSpPr>
            <p:spPr>
              <a:xfrm>
                <a:off x="7812360" y="4579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1" name="文本框 27678"/>
              <p:cNvSpPr/>
              <p:nvPr/>
            </p:nvSpPr>
            <p:spPr>
              <a:xfrm>
                <a:off x="7805880" y="4224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2" name="直接连接符 27679"/>
              <p:cNvSpPr/>
              <p:nvPr/>
            </p:nvSpPr>
            <p:spPr>
              <a:xfrm>
                <a:off x="7821720" y="46432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83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5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6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37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838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839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841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842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843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844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714240" y="1571760"/>
            <a:ext cx="471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口算下面各题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1285920" y="4319640"/>
            <a:ext cx="164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7" name="组合 19460"/>
          <p:cNvGrpSpPr/>
          <p:nvPr/>
        </p:nvGrpSpPr>
        <p:grpSpPr>
          <a:xfrm>
            <a:off x="1022400" y="2657520"/>
            <a:ext cx="1444680" cy="815400"/>
            <a:chOff x="1022400" y="2657520"/>
            <a:chExt cx="1444680" cy="815400"/>
          </a:xfrm>
        </p:grpSpPr>
        <p:sp>
          <p:nvSpPr>
            <p:cNvPr id="1488" name="Text Box 8"/>
            <p:cNvSpPr/>
            <p:nvPr/>
          </p:nvSpPr>
          <p:spPr>
            <a:xfrm>
              <a:off x="1319040" y="288936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89" name="组合 19462"/>
            <p:cNvGrpSpPr/>
            <p:nvPr/>
          </p:nvGrpSpPr>
          <p:grpSpPr>
            <a:xfrm>
              <a:off x="1714680" y="2657520"/>
              <a:ext cx="504720" cy="815400"/>
              <a:chOff x="1714680" y="2657520"/>
              <a:chExt cx="504720" cy="815400"/>
            </a:xfrm>
          </p:grpSpPr>
          <p:sp>
            <p:nvSpPr>
              <p:cNvPr id="1490" name="文本框 19463"/>
              <p:cNvSpPr/>
              <p:nvPr/>
            </p:nvSpPr>
            <p:spPr>
              <a:xfrm>
                <a:off x="1714680" y="3013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1" name="文本框 19464"/>
              <p:cNvSpPr/>
              <p:nvPr/>
            </p:nvSpPr>
            <p:spPr>
              <a:xfrm>
                <a:off x="1717560" y="2657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2" name="直接连接符 19465"/>
              <p:cNvSpPr/>
              <p:nvPr/>
            </p:nvSpPr>
            <p:spPr>
              <a:xfrm>
                <a:off x="1733400" y="30765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493" name="组合 19466"/>
            <p:cNvGrpSpPr/>
            <p:nvPr/>
          </p:nvGrpSpPr>
          <p:grpSpPr>
            <a:xfrm>
              <a:off x="1022400" y="2657520"/>
              <a:ext cx="504720" cy="815400"/>
              <a:chOff x="1022400" y="2657520"/>
              <a:chExt cx="504720" cy="815400"/>
            </a:xfrm>
          </p:grpSpPr>
          <p:sp>
            <p:nvSpPr>
              <p:cNvPr id="1494" name="文本框 19467"/>
              <p:cNvSpPr/>
              <p:nvPr/>
            </p:nvSpPr>
            <p:spPr>
              <a:xfrm>
                <a:off x="1022400" y="3013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5" name="文本框 19468"/>
              <p:cNvSpPr/>
              <p:nvPr/>
            </p:nvSpPr>
            <p:spPr>
              <a:xfrm>
                <a:off x="1025640" y="2657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6" name="直接连接符 19469"/>
              <p:cNvSpPr/>
              <p:nvPr/>
            </p:nvSpPr>
            <p:spPr>
              <a:xfrm>
                <a:off x="1031760" y="30765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497" name="文本框 19470"/>
            <p:cNvSpPr/>
            <p:nvPr/>
          </p:nvSpPr>
          <p:spPr>
            <a:xfrm>
              <a:off x="1963800" y="28065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8" name="文本框 19471"/>
          <p:cNvSpPr/>
          <p:nvPr/>
        </p:nvSpPr>
        <p:spPr>
          <a:xfrm>
            <a:off x="2212920" y="28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9" name="组合 19472"/>
          <p:cNvGrpSpPr/>
          <p:nvPr/>
        </p:nvGrpSpPr>
        <p:grpSpPr>
          <a:xfrm>
            <a:off x="3375000" y="2652840"/>
            <a:ext cx="1577520" cy="815040"/>
            <a:chOff x="3375000" y="2652840"/>
            <a:chExt cx="1577520" cy="815040"/>
          </a:xfrm>
        </p:grpSpPr>
        <p:sp>
          <p:nvSpPr>
            <p:cNvPr id="1500" name="Text Box 8"/>
            <p:cNvSpPr/>
            <p:nvPr/>
          </p:nvSpPr>
          <p:spPr>
            <a:xfrm>
              <a:off x="3757320" y="288432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1" name="文本框 19474"/>
            <p:cNvSpPr/>
            <p:nvPr/>
          </p:nvSpPr>
          <p:spPr>
            <a:xfrm>
              <a:off x="4162320" y="300816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2" name="文本框 19475"/>
            <p:cNvSpPr/>
            <p:nvPr/>
          </p:nvSpPr>
          <p:spPr>
            <a:xfrm>
              <a:off x="4079520" y="26528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3" name="直接连接符 19476"/>
            <p:cNvSpPr/>
            <p:nvPr/>
          </p:nvSpPr>
          <p:spPr>
            <a:xfrm>
              <a:off x="4143240" y="307152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4" name="文本框 19477"/>
            <p:cNvSpPr/>
            <p:nvPr/>
          </p:nvSpPr>
          <p:spPr>
            <a:xfrm>
              <a:off x="3375000" y="3008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5" name="文本框 19478"/>
            <p:cNvSpPr/>
            <p:nvPr/>
          </p:nvSpPr>
          <p:spPr>
            <a:xfrm>
              <a:off x="3463560" y="265284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6" name="直接连接符 19479"/>
            <p:cNvSpPr/>
            <p:nvPr/>
          </p:nvSpPr>
          <p:spPr>
            <a:xfrm>
              <a:off x="3441600" y="307152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7" name="文本框 19480"/>
            <p:cNvSpPr/>
            <p:nvPr/>
          </p:nvSpPr>
          <p:spPr>
            <a:xfrm>
              <a:off x="4449600" y="28018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8" name="文本框 19481"/>
          <p:cNvSpPr/>
          <p:nvPr/>
        </p:nvSpPr>
        <p:spPr>
          <a:xfrm>
            <a:off x="4719600" y="28116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9" name="组合 19482"/>
          <p:cNvGrpSpPr/>
          <p:nvPr/>
        </p:nvGrpSpPr>
        <p:grpSpPr>
          <a:xfrm>
            <a:off x="6053040" y="2600280"/>
            <a:ext cx="1181160" cy="815040"/>
            <a:chOff x="6053040" y="2600280"/>
            <a:chExt cx="1181160" cy="815040"/>
          </a:xfrm>
        </p:grpSpPr>
        <p:grpSp>
          <p:nvGrpSpPr>
            <p:cNvPr id="1510" name="组合 19483"/>
            <p:cNvGrpSpPr/>
            <p:nvPr/>
          </p:nvGrpSpPr>
          <p:grpSpPr>
            <a:xfrm>
              <a:off x="6053040" y="2600280"/>
              <a:ext cx="1014480" cy="815040"/>
              <a:chOff x="6053040" y="2600280"/>
              <a:chExt cx="1014480" cy="815040"/>
            </a:xfrm>
          </p:grpSpPr>
          <p:sp>
            <p:nvSpPr>
              <p:cNvPr id="1511" name="文本框 19484"/>
              <p:cNvSpPr/>
              <p:nvPr/>
            </p:nvSpPr>
            <p:spPr>
              <a:xfrm>
                <a:off x="6053040" y="28270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12" name="组合 19485"/>
              <p:cNvGrpSpPr/>
              <p:nvPr/>
            </p:nvGrpSpPr>
            <p:grpSpPr>
              <a:xfrm>
                <a:off x="6558120" y="2600280"/>
                <a:ext cx="509400" cy="815040"/>
                <a:chOff x="6558120" y="2600280"/>
                <a:chExt cx="509400" cy="815040"/>
              </a:xfrm>
            </p:grpSpPr>
            <p:sp>
              <p:nvSpPr>
                <p:cNvPr id="1513" name="文本框 19486"/>
                <p:cNvSpPr/>
                <p:nvPr/>
              </p:nvSpPr>
              <p:spPr>
                <a:xfrm>
                  <a:off x="6562800" y="29556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4" name="文本框 19487"/>
                <p:cNvSpPr/>
                <p:nvPr/>
              </p:nvSpPr>
              <p:spPr>
                <a:xfrm>
                  <a:off x="6558120" y="2600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15" name="直接连接符 19488"/>
                <p:cNvSpPr/>
                <p:nvPr/>
              </p:nvSpPr>
              <p:spPr>
                <a:xfrm>
                  <a:off x="6573960" y="30193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516" name="文本框 19489"/>
            <p:cNvSpPr/>
            <p:nvPr/>
          </p:nvSpPr>
          <p:spPr>
            <a:xfrm>
              <a:off x="6802560" y="2744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7" name="文本框 19490"/>
          <p:cNvSpPr/>
          <p:nvPr/>
        </p:nvSpPr>
        <p:spPr>
          <a:xfrm>
            <a:off x="7032600" y="274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18" name="组合 19491"/>
          <p:cNvGrpSpPr/>
          <p:nvPr/>
        </p:nvGrpSpPr>
        <p:grpSpPr>
          <a:xfrm>
            <a:off x="993600" y="4238640"/>
            <a:ext cx="1454040" cy="815400"/>
            <a:chOff x="993600" y="4238640"/>
            <a:chExt cx="1454040" cy="815400"/>
          </a:xfrm>
        </p:grpSpPr>
        <p:sp>
          <p:nvSpPr>
            <p:cNvPr id="1519" name="Text Box 8"/>
            <p:cNvSpPr/>
            <p:nvPr/>
          </p:nvSpPr>
          <p:spPr>
            <a:xfrm>
              <a:off x="1376280" y="4470480"/>
              <a:ext cx="7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2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0" name="文本框 19493"/>
            <p:cNvSpPr/>
            <p:nvPr/>
          </p:nvSpPr>
          <p:spPr>
            <a:xfrm>
              <a:off x="993600" y="4594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1" name="文本框 19494"/>
            <p:cNvSpPr/>
            <p:nvPr/>
          </p:nvSpPr>
          <p:spPr>
            <a:xfrm>
              <a:off x="1082520" y="423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2" name="直接连接符 19495"/>
            <p:cNvSpPr/>
            <p:nvPr/>
          </p:nvSpPr>
          <p:spPr>
            <a:xfrm>
              <a:off x="1060200" y="4657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3" name="文本框 19496"/>
            <p:cNvSpPr/>
            <p:nvPr/>
          </p:nvSpPr>
          <p:spPr>
            <a:xfrm>
              <a:off x="1944360" y="43974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24" name="文本框 19497"/>
          <p:cNvSpPr/>
          <p:nvPr/>
        </p:nvSpPr>
        <p:spPr>
          <a:xfrm>
            <a:off x="2184480" y="4397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5" name="文本框 19498"/>
          <p:cNvSpPr/>
          <p:nvPr/>
        </p:nvSpPr>
        <p:spPr>
          <a:xfrm>
            <a:off x="4738680" y="43704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6" name="组合 19499"/>
          <p:cNvGrpSpPr/>
          <p:nvPr/>
        </p:nvGrpSpPr>
        <p:grpSpPr>
          <a:xfrm>
            <a:off x="5872320" y="4149720"/>
            <a:ext cx="1577520" cy="815400"/>
            <a:chOff x="5872320" y="4149720"/>
            <a:chExt cx="1577520" cy="815400"/>
          </a:xfrm>
        </p:grpSpPr>
        <p:sp>
          <p:nvSpPr>
            <p:cNvPr id="1527" name="Text Box 8"/>
            <p:cNvSpPr/>
            <p:nvPr/>
          </p:nvSpPr>
          <p:spPr>
            <a:xfrm>
              <a:off x="6254640" y="438156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8" name="文本框 19501"/>
            <p:cNvSpPr/>
            <p:nvPr/>
          </p:nvSpPr>
          <p:spPr>
            <a:xfrm>
              <a:off x="6659640" y="45054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9" name="文本框 19502"/>
            <p:cNvSpPr/>
            <p:nvPr/>
          </p:nvSpPr>
          <p:spPr>
            <a:xfrm>
              <a:off x="6576840" y="414972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0" name="直接连接符 19503"/>
            <p:cNvSpPr/>
            <p:nvPr/>
          </p:nvSpPr>
          <p:spPr>
            <a:xfrm>
              <a:off x="6640560" y="456876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1" name="文本框 19504"/>
            <p:cNvSpPr/>
            <p:nvPr/>
          </p:nvSpPr>
          <p:spPr>
            <a:xfrm>
              <a:off x="5872320" y="4505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2" name="文本框 19505"/>
            <p:cNvSpPr/>
            <p:nvPr/>
          </p:nvSpPr>
          <p:spPr>
            <a:xfrm>
              <a:off x="5960880" y="414972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3" name="直接连接符 19506"/>
            <p:cNvSpPr/>
            <p:nvPr/>
          </p:nvSpPr>
          <p:spPr>
            <a:xfrm>
              <a:off x="5938920" y="456876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4" name="文本框 19507"/>
            <p:cNvSpPr/>
            <p:nvPr/>
          </p:nvSpPr>
          <p:spPr>
            <a:xfrm>
              <a:off x="6946920" y="429912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35" name="文本框 19508"/>
          <p:cNvSpPr/>
          <p:nvPr/>
        </p:nvSpPr>
        <p:spPr>
          <a:xfrm>
            <a:off x="7192800" y="4294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36" name="组合 19509"/>
          <p:cNvGrpSpPr/>
          <p:nvPr/>
        </p:nvGrpSpPr>
        <p:grpSpPr>
          <a:xfrm>
            <a:off x="3540240" y="4210200"/>
            <a:ext cx="1444680" cy="815040"/>
            <a:chOff x="3540240" y="4210200"/>
            <a:chExt cx="1444680" cy="815040"/>
          </a:xfrm>
        </p:grpSpPr>
        <p:sp>
          <p:nvSpPr>
            <p:cNvPr id="1537" name="Text Box 8"/>
            <p:cNvSpPr/>
            <p:nvPr/>
          </p:nvSpPr>
          <p:spPr>
            <a:xfrm>
              <a:off x="3836880" y="444168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38" name="组合 19511"/>
            <p:cNvGrpSpPr/>
            <p:nvPr/>
          </p:nvGrpSpPr>
          <p:grpSpPr>
            <a:xfrm>
              <a:off x="4232520" y="4210200"/>
              <a:ext cx="504720" cy="815040"/>
              <a:chOff x="4232520" y="4210200"/>
              <a:chExt cx="504720" cy="815040"/>
            </a:xfrm>
          </p:grpSpPr>
          <p:sp>
            <p:nvSpPr>
              <p:cNvPr id="1539" name="文本框 19512"/>
              <p:cNvSpPr/>
              <p:nvPr/>
            </p:nvSpPr>
            <p:spPr>
              <a:xfrm>
                <a:off x="4232520" y="456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0" name="文本框 19513"/>
              <p:cNvSpPr/>
              <p:nvPr/>
            </p:nvSpPr>
            <p:spPr>
              <a:xfrm>
                <a:off x="4235400" y="4210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1" name="直接连接符 19514"/>
              <p:cNvSpPr/>
              <p:nvPr/>
            </p:nvSpPr>
            <p:spPr>
              <a:xfrm>
                <a:off x="4251240" y="4628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42" name="组合 19515"/>
            <p:cNvGrpSpPr/>
            <p:nvPr/>
          </p:nvGrpSpPr>
          <p:grpSpPr>
            <a:xfrm>
              <a:off x="3540240" y="4210200"/>
              <a:ext cx="504720" cy="815040"/>
              <a:chOff x="3540240" y="4210200"/>
              <a:chExt cx="504720" cy="815040"/>
            </a:xfrm>
          </p:grpSpPr>
          <p:sp>
            <p:nvSpPr>
              <p:cNvPr id="1543" name="文本框 19516"/>
              <p:cNvSpPr/>
              <p:nvPr/>
            </p:nvSpPr>
            <p:spPr>
              <a:xfrm>
                <a:off x="3540240" y="456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4" name="文本框 19517"/>
              <p:cNvSpPr/>
              <p:nvPr/>
            </p:nvSpPr>
            <p:spPr>
              <a:xfrm>
                <a:off x="3543480" y="4210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5" name="直接连接符 19518"/>
              <p:cNvSpPr/>
              <p:nvPr/>
            </p:nvSpPr>
            <p:spPr>
              <a:xfrm>
                <a:off x="3549600" y="46288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46" name="文本框 19519"/>
            <p:cNvSpPr/>
            <p:nvPr/>
          </p:nvSpPr>
          <p:spPr>
            <a:xfrm>
              <a:off x="4481640" y="43588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47" name="矩形 19521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矩形 19522"/>
          <p:cNvSpPr/>
          <p:nvPr/>
        </p:nvSpPr>
        <p:spPr>
          <a:xfrm>
            <a:off x="234720" y="4648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组合 20481"/>
          <p:cNvGrpSpPr/>
          <p:nvPr/>
        </p:nvGrpSpPr>
        <p:grpSpPr>
          <a:xfrm>
            <a:off x="3740040" y="3141720"/>
            <a:ext cx="1444680" cy="815400"/>
            <a:chOff x="3740040" y="3141720"/>
            <a:chExt cx="1444680" cy="815400"/>
          </a:xfrm>
        </p:grpSpPr>
        <p:sp>
          <p:nvSpPr>
            <p:cNvPr id="1550" name="Text Box 8"/>
            <p:cNvSpPr/>
            <p:nvPr/>
          </p:nvSpPr>
          <p:spPr>
            <a:xfrm>
              <a:off x="4036680" y="3373560"/>
              <a:ext cx="3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1" name="组合 20483"/>
            <p:cNvGrpSpPr/>
            <p:nvPr/>
          </p:nvGrpSpPr>
          <p:grpSpPr>
            <a:xfrm>
              <a:off x="4432320" y="3141720"/>
              <a:ext cx="504720" cy="815400"/>
              <a:chOff x="4432320" y="3141720"/>
              <a:chExt cx="504720" cy="815400"/>
            </a:xfrm>
          </p:grpSpPr>
          <p:sp>
            <p:nvSpPr>
              <p:cNvPr id="1552" name="文本框 20484"/>
              <p:cNvSpPr/>
              <p:nvPr/>
            </p:nvSpPr>
            <p:spPr>
              <a:xfrm>
                <a:off x="4432320" y="349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3" name="文本框 20485"/>
              <p:cNvSpPr/>
              <p:nvPr/>
            </p:nvSpPr>
            <p:spPr>
              <a:xfrm>
                <a:off x="4435200" y="3141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4" name="直接连接符 20486"/>
              <p:cNvSpPr/>
              <p:nvPr/>
            </p:nvSpPr>
            <p:spPr>
              <a:xfrm>
                <a:off x="4451040" y="3560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55" name="组合 20487"/>
            <p:cNvGrpSpPr/>
            <p:nvPr/>
          </p:nvGrpSpPr>
          <p:grpSpPr>
            <a:xfrm>
              <a:off x="3740040" y="3141720"/>
              <a:ext cx="504720" cy="815400"/>
              <a:chOff x="3740040" y="3141720"/>
              <a:chExt cx="504720" cy="815400"/>
            </a:xfrm>
          </p:grpSpPr>
          <p:sp>
            <p:nvSpPr>
              <p:cNvPr id="1556" name="文本框 20488"/>
              <p:cNvSpPr/>
              <p:nvPr/>
            </p:nvSpPr>
            <p:spPr>
              <a:xfrm>
                <a:off x="3740040" y="349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7" name="文本框 20489"/>
              <p:cNvSpPr/>
              <p:nvPr/>
            </p:nvSpPr>
            <p:spPr>
              <a:xfrm>
                <a:off x="3743280" y="3141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8" name="直接连接符 20490"/>
              <p:cNvSpPr/>
              <p:nvPr/>
            </p:nvSpPr>
            <p:spPr>
              <a:xfrm>
                <a:off x="3749400" y="3560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59" name="文本框 20491"/>
            <p:cNvSpPr/>
            <p:nvPr/>
          </p:nvSpPr>
          <p:spPr>
            <a:xfrm>
              <a:off x="4681440" y="32907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60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1" name="Rectangle 2"/>
          <p:cNvSpPr/>
          <p:nvPr/>
        </p:nvSpPr>
        <p:spPr>
          <a:xfrm>
            <a:off x="1214280" y="3378240"/>
            <a:ext cx="1643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2" name="Rectangle 2"/>
          <p:cNvSpPr/>
          <p:nvPr/>
        </p:nvSpPr>
        <p:spPr>
          <a:xfrm>
            <a:off x="395280" y="4292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观察上面各题，你有什么发现？（乘积都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两个因数的分子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和分母的位置刚好相反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3" name="Rectangle 2"/>
          <p:cNvSpPr/>
          <p:nvPr/>
        </p:nvSpPr>
        <p:spPr>
          <a:xfrm>
            <a:off x="731880" y="49417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写出几个这样的算式。（反馈交流，教师板书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Rectangle 2"/>
          <p:cNvSpPr/>
          <p:nvPr/>
        </p:nvSpPr>
        <p:spPr>
          <a:xfrm>
            <a:off x="755640" y="53737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还能写吗？能写多少个？（板书：无数个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5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观察算式，揭示课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6" name="文本框 20498"/>
          <p:cNvSpPr/>
          <p:nvPr/>
        </p:nvSpPr>
        <p:spPr>
          <a:xfrm>
            <a:off x="2514600" y="23605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67" name="组合 20499"/>
          <p:cNvGrpSpPr/>
          <p:nvPr/>
        </p:nvGrpSpPr>
        <p:grpSpPr>
          <a:xfrm>
            <a:off x="3600360" y="2197080"/>
            <a:ext cx="1578240" cy="815400"/>
            <a:chOff x="3600360" y="2197080"/>
            <a:chExt cx="1578240" cy="815400"/>
          </a:xfrm>
        </p:grpSpPr>
        <p:sp>
          <p:nvSpPr>
            <p:cNvPr id="1568" name="Text Box 8"/>
            <p:cNvSpPr/>
            <p:nvPr/>
          </p:nvSpPr>
          <p:spPr>
            <a:xfrm>
              <a:off x="3983040" y="242892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9" name="文本框 20501"/>
            <p:cNvSpPr/>
            <p:nvPr/>
          </p:nvSpPr>
          <p:spPr>
            <a:xfrm>
              <a:off x="4388040" y="2552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0" name="文本框 20502"/>
            <p:cNvSpPr/>
            <p:nvPr/>
          </p:nvSpPr>
          <p:spPr>
            <a:xfrm>
              <a:off x="4305240" y="219708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1" name="直接连接符 20503"/>
            <p:cNvSpPr/>
            <p:nvPr/>
          </p:nvSpPr>
          <p:spPr>
            <a:xfrm>
              <a:off x="4368960" y="2616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2" name="文本框 20504"/>
            <p:cNvSpPr/>
            <p:nvPr/>
          </p:nvSpPr>
          <p:spPr>
            <a:xfrm>
              <a:off x="3600360" y="25527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3" name="文本框 20505"/>
            <p:cNvSpPr/>
            <p:nvPr/>
          </p:nvSpPr>
          <p:spPr>
            <a:xfrm>
              <a:off x="3689280" y="2197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4" name="直接连接符 20506"/>
            <p:cNvSpPr/>
            <p:nvPr/>
          </p:nvSpPr>
          <p:spPr>
            <a:xfrm>
              <a:off x="3667320" y="2616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75" name="文本框 20507"/>
            <p:cNvSpPr/>
            <p:nvPr/>
          </p:nvSpPr>
          <p:spPr>
            <a:xfrm>
              <a:off x="4675320" y="234648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76" name="文本框 20508"/>
          <p:cNvSpPr/>
          <p:nvPr/>
        </p:nvSpPr>
        <p:spPr>
          <a:xfrm>
            <a:off x="4944960" y="23558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77" name="组合 20509"/>
          <p:cNvGrpSpPr/>
          <p:nvPr/>
        </p:nvGrpSpPr>
        <p:grpSpPr>
          <a:xfrm>
            <a:off x="6335640" y="2144880"/>
            <a:ext cx="1181160" cy="815040"/>
            <a:chOff x="6335640" y="2144880"/>
            <a:chExt cx="1181160" cy="815040"/>
          </a:xfrm>
        </p:grpSpPr>
        <p:grpSp>
          <p:nvGrpSpPr>
            <p:cNvPr id="1578" name="组合 20510"/>
            <p:cNvGrpSpPr/>
            <p:nvPr/>
          </p:nvGrpSpPr>
          <p:grpSpPr>
            <a:xfrm>
              <a:off x="6335640" y="2144880"/>
              <a:ext cx="1014480" cy="815040"/>
              <a:chOff x="6335640" y="2144880"/>
              <a:chExt cx="1014480" cy="815040"/>
            </a:xfrm>
          </p:grpSpPr>
          <p:sp>
            <p:nvSpPr>
              <p:cNvPr id="1579" name="文本框 20511"/>
              <p:cNvSpPr/>
              <p:nvPr/>
            </p:nvSpPr>
            <p:spPr>
              <a:xfrm>
                <a:off x="6335640" y="23716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80" name="组合 20512"/>
              <p:cNvGrpSpPr/>
              <p:nvPr/>
            </p:nvGrpSpPr>
            <p:grpSpPr>
              <a:xfrm>
                <a:off x="6840720" y="2144880"/>
                <a:ext cx="509400" cy="815040"/>
                <a:chOff x="6840720" y="2144880"/>
                <a:chExt cx="509400" cy="815040"/>
              </a:xfrm>
            </p:grpSpPr>
            <p:sp>
              <p:nvSpPr>
                <p:cNvPr id="1581" name="文本框 20513"/>
                <p:cNvSpPr/>
                <p:nvPr/>
              </p:nvSpPr>
              <p:spPr>
                <a:xfrm>
                  <a:off x="6845400" y="25002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2" name="文本框 20514"/>
                <p:cNvSpPr/>
                <p:nvPr/>
              </p:nvSpPr>
              <p:spPr>
                <a:xfrm>
                  <a:off x="6840720" y="21448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3" name="直接连接符 20515"/>
                <p:cNvSpPr/>
                <p:nvPr/>
              </p:nvSpPr>
              <p:spPr>
                <a:xfrm>
                  <a:off x="6856560" y="25639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584" name="文本框 20516"/>
            <p:cNvSpPr/>
            <p:nvPr/>
          </p:nvSpPr>
          <p:spPr>
            <a:xfrm>
              <a:off x="7085160" y="22892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85" name="文本框 20517"/>
          <p:cNvSpPr/>
          <p:nvPr/>
        </p:nvSpPr>
        <p:spPr>
          <a:xfrm>
            <a:off x="7343640" y="2289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6" name="组合 20518"/>
          <p:cNvGrpSpPr/>
          <p:nvPr/>
        </p:nvGrpSpPr>
        <p:grpSpPr>
          <a:xfrm>
            <a:off x="1266840" y="3144960"/>
            <a:ext cx="1454040" cy="815400"/>
            <a:chOff x="1266840" y="3144960"/>
            <a:chExt cx="1454040" cy="815400"/>
          </a:xfrm>
        </p:grpSpPr>
        <p:sp>
          <p:nvSpPr>
            <p:cNvPr id="1587" name="Text Box 8"/>
            <p:cNvSpPr/>
            <p:nvPr/>
          </p:nvSpPr>
          <p:spPr>
            <a:xfrm>
              <a:off x="1649520" y="3376800"/>
              <a:ext cx="7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2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8" name="文本框 20520"/>
            <p:cNvSpPr/>
            <p:nvPr/>
          </p:nvSpPr>
          <p:spPr>
            <a:xfrm>
              <a:off x="1266840" y="3500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9" name="文本框 20521"/>
            <p:cNvSpPr/>
            <p:nvPr/>
          </p:nvSpPr>
          <p:spPr>
            <a:xfrm>
              <a:off x="1355760" y="3144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0" name="直接连接符 20522"/>
            <p:cNvSpPr/>
            <p:nvPr/>
          </p:nvSpPr>
          <p:spPr>
            <a:xfrm>
              <a:off x="1333440" y="35640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1" name="文本框 20523"/>
            <p:cNvSpPr/>
            <p:nvPr/>
          </p:nvSpPr>
          <p:spPr>
            <a:xfrm>
              <a:off x="2217600" y="3303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92" name="文本框 20524"/>
          <p:cNvSpPr/>
          <p:nvPr/>
        </p:nvSpPr>
        <p:spPr>
          <a:xfrm>
            <a:off x="2457360" y="330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3" name="文本框 20525"/>
          <p:cNvSpPr/>
          <p:nvPr/>
        </p:nvSpPr>
        <p:spPr>
          <a:xfrm>
            <a:off x="4925880" y="3295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94" name="组合 20526"/>
          <p:cNvGrpSpPr/>
          <p:nvPr/>
        </p:nvGrpSpPr>
        <p:grpSpPr>
          <a:xfrm>
            <a:off x="6049800" y="3122640"/>
            <a:ext cx="1578240" cy="815400"/>
            <a:chOff x="6049800" y="3122640"/>
            <a:chExt cx="1578240" cy="815400"/>
          </a:xfrm>
        </p:grpSpPr>
        <p:sp>
          <p:nvSpPr>
            <p:cNvPr id="1595" name="Text Box 8"/>
            <p:cNvSpPr/>
            <p:nvPr/>
          </p:nvSpPr>
          <p:spPr>
            <a:xfrm>
              <a:off x="6432480" y="335448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6" name="文本框 20528"/>
            <p:cNvSpPr/>
            <p:nvPr/>
          </p:nvSpPr>
          <p:spPr>
            <a:xfrm>
              <a:off x="6837480" y="3478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7" name="文本框 20529"/>
            <p:cNvSpPr/>
            <p:nvPr/>
          </p:nvSpPr>
          <p:spPr>
            <a:xfrm>
              <a:off x="6754680" y="312264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8" name="直接连接符 20530"/>
            <p:cNvSpPr/>
            <p:nvPr/>
          </p:nvSpPr>
          <p:spPr>
            <a:xfrm>
              <a:off x="6818400" y="35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99" name="文本框 20531"/>
            <p:cNvSpPr/>
            <p:nvPr/>
          </p:nvSpPr>
          <p:spPr>
            <a:xfrm>
              <a:off x="6049800" y="34783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0" name="文本框 20532"/>
            <p:cNvSpPr/>
            <p:nvPr/>
          </p:nvSpPr>
          <p:spPr>
            <a:xfrm>
              <a:off x="6138720" y="3122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1" name="直接连接符 20533"/>
            <p:cNvSpPr/>
            <p:nvPr/>
          </p:nvSpPr>
          <p:spPr>
            <a:xfrm>
              <a:off x="6116760" y="35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2" name="文本框 20534"/>
            <p:cNvSpPr/>
            <p:nvPr/>
          </p:nvSpPr>
          <p:spPr>
            <a:xfrm>
              <a:off x="7124760" y="32720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03" name="文本框 20535"/>
          <p:cNvSpPr/>
          <p:nvPr/>
        </p:nvSpPr>
        <p:spPr>
          <a:xfrm>
            <a:off x="7370640" y="326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04" name="组合 20536"/>
          <p:cNvGrpSpPr/>
          <p:nvPr/>
        </p:nvGrpSpPr>
        <p:grpSpPr>
          <a:xfrm>
            <a:off x="1308240" y="2189160"/>
            <a:ext cx="1443960" cy="815400"/>
            <a:chOff x="1308240" y="2189160"/>
            <a:chExt cx="1443960" cy="815400"/>
          </a:xfrm>
        </p:grpSpPr>
        <p:sp>
          <p:nvSpPr>
            <p:cNvPr id="1605" name="Text Box 8"/>
            <p:cNvSpPr/>
            <p:nvPr/>
          </p:nvSpPr>
          <p:spPr>
            <a:xfrm>
              <a:off x="1604520" y="2421000"/>
              <a:ext cx="3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06" name="组合 20538"/>
            <p:cNvGrpSpPr/>
            <p:nvPr/>
          </p:nvGrpSpPr>
          <p:grpSpPr>
            <a:xfrm>
              <a:off x="2000160" y="2189160"/>
              <a:ext cx="504360" cy="815400"/>
              <a:chOff x="2000160" y="2189160"/>
              <a:chExt cx="504360" cy="815400"/>
            </a:xfrm>
          </p:grpSpPr>
          <p:sp>
            <p:nvSpPr>
              <p:cNvPr id="1607" name="文本框 20539"/>
              <p:cNvSpPr/>
              <p:nvPr/>
            </p:nvSpPr>
            <p:spPr>
              <a:xfrm>
                <a:off x="2000160" y="25448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8" name="文本框 20540"/>
              <p:cNvSpPr/>
              <p:nvPr/>
            </p:nvSpPr>
            <p:spPr>
              <a:xfrm>
                <a:off x="2002680" y="2189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9" name="直接连接符 20541"/>
              <p:cNvSpPr/>
              <p:nvPr/>
            </p:nvSpPr>
            <p:spPr>
              <a:xfrm>
                <a:off x="2018520" y="26082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10" name="组合 20542"/>
            <p:cNvGrpSpPr/>
            <p:nvPr/>
          </p:nvGrpSpPr>
          <p:grpSpPr>
            <a:xfrm>
              <a:off x="1308240" y="2189160"/>
              <a:ext cx="504360" cy="815400"/>
              <a:chOff x="1308240" y="2189160"/>
              <a:chExt cx="504360" cy="815400"/>
            </a:xfrm>
          </p:grpSpPr>
          <p:sp>
            <p:nvSpPr>
              <p:cNvPr id="1611" name="文本框 20543"/>
              <p:cNvSpPr/>
              <p:nvPr/>
            </p:nvSpPr>
            <p:spPr>
              <a:xfrm>
                <a:off x="1308240" y="25448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文本框 20544"/>
              <p:cNvSpPr/>
              <p:nvPr/>
            </p:nvSpPr>
            <p:spPr>
              <a:xfrm>
                <a:off x="1311120" y="2189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3" name="直接连接符 20545"/>
              <p:cNvSpPr/>
              <p:nvPr/>
            </p:nvSpPr>
            <p:spPr>
              <a:xfrm>
                <a:off x="1317240" y="26082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4" name="文本框 20546"/>
            <p:cNvSpPr/>
            <p:nvPr/>
          </p:nvSpPr>
          <p:spPr>
            <a:xfrm>
              <a:off x="2249280" y="233820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15" name="矩形 20548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6" name="矩形 20549"/>
          <p:cNvSpPr/>
          <p:nvPr/>
        </p:nvSpPr>
        <p:spPr>
          <a:xfrm>
            <a:off x="234720" y="4648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出示概念，加深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8" name="Rectangle 2"/>
          <p:cNvSpPr/>
          <p:nvPr/>
        </p:nvSpPr>
        <p:spPr>
          <a:xfrm>
            <a:off x="395280" y="442116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能说说什么是倒数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9" name="Rectangle 2"/>
          <p:cNvSpPr/>
          <p:nvPr/>
        </p:nvSpPr>
        <p:spPr>
          <a:xfrm>
            <a:off x="1187280" y="4924440"/>
            <a:ext cx="721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举例说说，什么是“互为”倒数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0" name="Rectangle 2"/>
          <p:cNvSpPr/>
          <p:nvPr/>
        </p:nvSpPr>
        <p:spPr>
          <a:xfrm>
            <a:off x="434880" y="2778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乘积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的两个数互为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倒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  和   互为倒数，就是指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的倒数是   ，   的倒数是   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21" name="组合 21509"/>
          <p:cNvGrpSpPr/>
          <p:nvPr/>
        </p:nvGrpSpPr>
        <p:grpSpPr>
          <a:xfrm>
            <a:off x="5343480" y="2185920"/>
            <a:ext cx="504720" cy="815400"/>
            <a:chOff x="5343480" y="2185920"/>
            <a:chExt cx="504720" cy="815400"/>
          </a:xfrm>
        </p:grpSpPr>
        <p:sp>
          <p:nvSpPr>
            <p:cNvPr id="1622" name="文本框 21510"/>
            <p:cNvSpPr/>
            <p:nvPr/>
          </p:nvSpPr>
          <p:spPr>
            <a:xfrm>
              <a:off x="5343480" y="2541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3" name="文本框 21511"/>
            <p:cNvSpPr/>
            <p:nvPr/>
          </p:nvSpPr>
          <p:spPr>
            <a:xfrm>
              <a:off x="5346360" y="218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4" name="直接连接符 21512"/>
            <p:cNvSpPr/>
            <p:nvPr/>
          </p:nvSpPr>
          <p:spPr>
            <a:xfrm>
              <a:off x="5362200" y="26049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25" name="组合 21513"/>
          <p:cNvGrpSpPr/>
          <p:nvPr/>
        </p:nvGrpSpPr>
        <p:grpSpPr>
          <a:xfrm>
            <a:off x="4676760" y="2190600"/>
            <a:ext cx="504720" cy="815400"/>
            <a:chOff x="4676760" y="2190600"/>
            <a:chExt cx="504720" cy="815400"/>
          </a:xfrm>
        </p:grpSpPr>
        <p:sp>
          <p:nvSpPr>
            <p:cNvPr id="1626" name="文本框 21514"/>
            <p:cNvSpPr/>
            <p:nvPr/>
          </p:nvSpPr>
          <p:spPr>
            <a:xfrm>
              <a:off x="4676760" y="2546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7" name="文本框 21515"/>
            <p:cNvSpPr/>
            <p:nvPr/>
          </p:nvSpPr>
          <p:spPr>
            <a:xfrm>
              <a:off x="4680000" y="2190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8" name="直接连接符 21516"/>
            <p:cNvSpPr/>
            <p:nvPr/>
          </p:nvSpPr>
          <p:spPr>
            <a:xfrm>
              <a:off x="4686120" y="26096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29" name="组合 21517"/>
          <p:cNvGrpSpPr/>
          <p:nvPr/>
        </p:nvGrpSpPr>
        <p:grpSpPr>
          <a:xfrm>
            <a:off x="822240" y="2781360"/>
            <a:ext cx="504720" cy="815400"/>
            <a:chOff x="822240" y="2781360"/>
            <a:chExt cx="504720" cy="815400"/>
          </a:xfrm>
        </p:grpSpPr>
        <p:sp>
          <p:nvSpPr>
            <p:cNvPr id="1630" name="文本框 21518"/>
            <p:cNvSpPr/>
            <p:nvPr/>
          </p:nvSpPr>
          <p:spPr>
            <a:xfrm>
              <a:off x="822240" y="3137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1" name="文本框 21519"/>
            <p:cNvSpPr/>
            <p:nvPr/>
          </p:nvSpPr>
          <p:spPr>
            <a:xfrm>
              <a:off x="825480" y="278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2" name="直接连接符 21520"/>
            <p:cNvSpPr/>
            <p:nvPr/>
          </p:nvSpPr>
          <p:spPr>
            <a:xfrm>
              <a:off x="831600" y="3200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3" name="组合 21521"/>
          <p:cNvGrpSpPr/>
          <p:nvPr/>
        </p:nvGrpSpPr>
        <p:grpSpPr>
          <a:xfrm>
            <a:off x="2190600" y="2781360"/>
            <a:ext cx="504720" cy="815400"/>
            <a:chOff x="2190600" y="2781360"/>
            <a:chExt cx="504720" cy="815400"/>
          </a:xfrm>
        </p:grpSpPr>
        <p:sp>
          <p:nvSpPr>
            <p:cNvPr id="1634" name="文本框 21522"/>
            <p:cNvSpPr/>
            <p:nvPr/>
          </p:nvSpPr>
          <p:spPr>
            <a:xfrm>
              <a:off x="2190600" y="3137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5" name="文本框 21523"/>
            <p:cNvSpPr/>
            <p:nvPr/>
          </p:nvSpPr>
          <p:spPr>
            <a:xfrm>
              <a:off x="2193480" y="278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6" name="直接连接符 21524"/>
            <p:cNvSpPr/>
            <p:nvPr/>
          </p:nvSpPr>
          <p:spPr>
            <a:xfrm>
              <a:off x="2209320" y="3200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7" name="组合 21525"/>
          <p:cNvGrpSpPr/>
          <p:nvPr/>
        </p:nvGrpSpPr>
        <p:grpSpPr>
          <a:xfrm>
            <a:off x="2887560" y="2790720"/>
            <a:ext cx="504720" cy="815400"/>
            <a:chOff x="2887560" y="2790720"/>
            <a:chExt cx="504720" cy="815400"/>
          </a:xfrm>
        </p:grpSpPr>
        <p:sp>
          <p:nvSpPr>
            <p:cNvPr id="1638" name="文本框 21526"/>
            <p:cNvSpPr/>
            <p:nvPr/>
          </p:nvSpPr>
          <p:spPr>
            <a:xfrm>
              <a:off x="2887560" y="3146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9" name="文本框 21527"/>
            <p:cNvSpPr/>
            <p:nvPr/>
          </p:nvSpPr>
          <p:spPr>
            <a:xfrm>
              <a:off x="2890440" y="2790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0" name="直接连接符 21528"/>
            <p:cNvSpPr/>
            <p:nvPr/>
          </p:nvSpPr>
          <p:spPr>
            <a:xfrm>
              <a:off x="2906280" y="32097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41" name="组合 21529"/>
          <p:cNvGrpSpPr/>
          <p:nvPr/>
        </p:nvGrpSpPr>
        <p:grpSpPr>
          <a:xfrm>
            <a:off x="4292640" y="2781360"/>
            <a:ext cx="504720" cy="815400"/>
            <a:chOff x="4292640" y="2781360"/>
            <a:chExt cx="504720" cy="815400"/>
          </a:xfrm>
        </p:grpSpPr>
        <p:sp>
          <p:nvSpPr>
            <p:cNvPr id="1642" name="文本框 21530"/>
            <p:cNvSpPr/>
            <p:nvPr/>
          </p:nvSpPr>
          <p:spPr>
            <a:xfrm>
              <a:off x="4292640" y="3137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3" name="文本框 21531"/>
            <p:cNvSpPr/>
            <p:nvPr/>
          </p:nvSpPr>
          <p:spPr>
            <a:xfrm>
              <a:off x="4295880" y="278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44" name="直接连接符 21532"/>
            <p:cNvSpPr/>
            <p:nvPr/>
          </p:nvSpPr>
          <p:spPr>
            <a:xfrm>
              <a:off x="4302000" y="3200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45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6" name="矩形 21535"/>
          <p:cNvSpPr/>
          <p:nvPr/>
        </p:nvSpPr>
        <p:spPr>
          <a:xfrm>
            <a:off x="18720" y="4432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自学概念，探究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8" name="Rectangle 2"/>
          <p:cNvSpPr/>
          <p:nvPr/>
        </p:nvSpPr>
        <p:spPr>
          <a:xfrm>
            <a:off x="428760" y="385776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样找一个数的倒数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9" name="Rectangle 2"/>
          <p:cNvSpPr/>
          <p:nvPr/>
        </p:nvSpPr>
        <p:spPr>
          <a:xfrm>
            <a:off x="828720" y="2060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面哪两个数互为倒数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50" name="Object 7" descr=""/>
          <p:cNvPicPr/>
          <p:nvPr/>
        </p:nvPicPr>
        <p:blipFill>
          <a:blip r:embed="rId1"/>
          <a:stretch/>
        </p:blipFill>
        <p:spPr>
          <a:xfrm>
            <a:off x="4502160" y="3295800"/>
            <a:ext cx="139680" cy="266400"/>
          </a:xfrm>
          <a:prstGeom prst="rect">
            <a:avLst/>
          </a:prstGeom>
          <a:ln w="0">
            <a:noFill/>
          </a:ln>
        </p:spPr>
      </p:pic>
      <p:sp>
        <p:nvSpPr>
          <p:cNvPr id="1651" name="Rectangle 2"/>
          <p:cNvSpPr/>
          <p:nvPr/>
        </p:nvSpPr>
        <p:spPr>
          <a:xfrm>
            <a:off x="1220760" y="44290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倒数是多少呢？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有倒数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52" name="组合 22535"/>
          <p:cNvGrpSpPr/>
          <p:nvPr/>
        </p:nvGrpSpPr>
        <p:grpSpPr>
          <a:xfrm>
            <a:off x="1701720" y="2698920"/>
            <a:ext cx="4469040" cy="857520"/>
            <a:chOff x="1701720" y="2698920"/>
            <a:chExt cx="4469040" cy="857520"/>
          </a:xfrm>
        </p:grpSpPr>
        <p:grpSp>
          <p:nvGrpSpPr>
            <p:cNvPr id="1653" name="组合 22536"/>
            <p:cNvGrpSpPr/>
            <p:nvPr/>
          </p:nvGrpSpPr>
          <p:grpSpPr>
            <a:xfrm>
              <a:off x="1701720" y="2741400"/>
              <a:ext cx="504720" cy="815040"/>
              <a:chOff x="1701720" y="2741400"/>
              <a:chExt cx="504720" cy="815040"/>
            </a:xfrm>
          </p:grpSpPr>
          <p:sp>
            <p:nvSpPr>
              <p:cNvPr id="1654" name="文本框 22537"/>
              <p:cNvSpPr/>
              <p:nvPr/>
            </p:nvSpPr>
            <p:spPr>
              <a:xfrm>
                <a:off x="1701720" y="309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5" name="文本框 22538"/>
              <p:cNvSpPr/>
              <p:nvPr/>
            </p:nvSpPr>
            <p:spPr>
              <a:xfrm>
                <a:off x="1704960" y="2741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6" name="直接连接符 22539"/>
              <p:cNvSpPr/>
              <p:nvPr/>
            </p:nvSpPr>
            <p:spPr>
              <a:xfrm>
                <a:off x="1711080" y="3160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57" name="文本框 22540"/>
            <p:cNvSpPr/>
            <p:nvPr/>
          </p:nvSpPr>
          <p:spPr>
            <a:xfrm>
              <a:off x="2278080" y="2908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8" name="组合 22541"/>
            <p:cNvGrpSpPr/>
            <p:nvPr/>
          </p:nvGrpSpPr>
          <p:grpSpPr>
            <a:xfrm>
              <a:off x="2809800" y="2741400"/>
              <a:ext cx="504720" cy="815040"/>
              <a:chOff x="2809800" y="2741400"/>
              <a:chExt cx="504720" cy="815040"/>
            </a:xfrm>
          </p:grpSpPr>
          <p:sp>
            <p:nvSpPr>
              <p:cNvPr id="1659" name="文本框 22542"/>
              <p:cNvSpPr/>
              <p:nvPr/>
            </p:nvSpPr>
            <p:spPr>
              <a:xfrm>
                <a:off x="2809800" y="309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0" name="文本框 22543"/>
              <p:cNvSpPr/>
              <p:nvPr/>
            </p:nvSpPr>
            <p:spPr>
              <a:xfrm>
                <a:off x="2813040" y="2741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1" name="直接连接符 22544"/>
              <p:cNvSpPr/>
              <p:nvPr/>
            </p:nvSpPr>
            <p:spPr>
              <a:xfrm>
                <a:off x="2819160" y="3160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62" name="组合 22545"/>
            <p:cNvGrpSpPr/>
            <p:nvPr/>
          </p:nvGrpSpPr>
          <p:grpSpPr>
            <a:xfrm>
              <a:off x="3476520" y="2741400"/>
              <a:ext cx="504720" cy="815040"/>
              <a:chOff x="3476520" y="2741400"/>
              <a:chExt cx="504720" cy="815040"/>
            </a:xfrm>
          </p:grpSpPr>
          <p:sp>
            <p:nvSpPr>
              <p:cNvPr id="1663" name="文本框 22546"/>
              <p:cNvSpPr/>
              <p:nvPr/>
            </p:nvSpPr>
            <p:spPr>
              <a:xfrm>
                <a:off x="3476520" y="309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4" name="文本框 22547"/>
              <p:cNvSpPr/>
              <p:nvPr/>
            </p:nvSpPr>
            <p:spPr>
              <a:xfrm>
                <a:off x="3479760" y="2741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5" name="直接连接符 22548"/>
              <p:cNvSpPr/>
              <p:nvPr/>
            </p:nvSpPr>
            <p:spPr>
              <a:xfrm>
                <a:off x="3485880" y="3160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66" name="组合 22549"/>
            <p:cNvGrpSpPr/>
            <p:nvPr/>
          </p:nvGrpSpPr>
          <p:grpSpPr>
            <a:xfrm>
              <a:off x="4154400" y="2741400"/>
              <a:ext cx="504720" cy="815040"/>
              <a:chOff x="4154400" y="2741400"/>
              <a:chExt cx="504720" cy="815040"/>
            </a:xfrm>
          </p:grpSpPr>
          <p:sp>
            <p:nvSpPr>
              <p:cNvPr id="1667" name="文本框 22550"/>
              <p:cNvSpPr/>
              <p:nvPr/>
            </p:nvSpPr>
            <p:spPr>
              <a:xfrm>
                <a:off x="4154400" y="309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8" name="文本框 22551"/>
              <p:cNvSpPr/>
              <p:nvPr/>
            </p:nvSpPr>
            <p:spPr>
              <a:xfrm>
                <a:off x="4157640" y="2741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9" name="直接连接符 22552"/>
              <p:cNvSpPr/>
              <p:nvPr/>
            </p:nvSpPr>
            <p:spPr>
              <a:xfrm>
                <a:off x="4163760" y="3160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0" name="文本框 22553"/>
            <p:cNvSpPr/>
            <p:nvPr/>
          </p:nvSpPr>
          <p:spPr>
            <a:xfrm>
              <a:off x="4730760" y="29048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1" name="组合 22554"/>
            <p:cNvGrpSpPr/>
            <p:nvPr/>
          </p:nvGrpSpPr>
          <p:grpSpPr>
            <a:xfrm>
              <a:off x="5307120" y="2698920"/>
              <a:ext cx="504720" cy="815040"/>
              <a:chOff x="5307120" y="2698920"/>
              <a:chExt cx="504720" cy="815040"/>
            </a:xfrm>
          </p:grpSpPr>
          <p:sp>
            <p:nvSpPr>
              <p:cNvPr id="1672" name="文本框 22555"/>
              <p:cNvSpPr/>
              <p:nvPr/>
            </p:nvSpPr>
            <p:spPr>
              <a:xfrm>
                <a:off x="5307120" y="3054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3" name="文本框 22556"/>
              <p:cNvSpPr/>
              <p:nvPr/>
            </p:nvSpPr>
            <p:spPr>
              <a:xfrm>
                <a:off x="5310360" y="2698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直接连接符 22557"/>
              <p:cNvSpPr/>
              <p:nvPr/>
            </p:nvSpPr>
            <p:spPr>
              <a:xfrm>
                <a:off x="5316480" y="31176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5" name="文本框 22558"/>
            <p:cNvSpPr/>
            <p:nvPr/>
          </p:nvSpPr>
          <p:spPr>
            <a:xfrm>
              <a:off x="5883120" y="2869920"/>
              <a:ext cx="2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76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自学概念，探究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8" name="Rectangle 2"/>
          <p:cNvSpPr/>
          <p:nvPr/>
        </p:nvSpPr>
        <p:spPr>
          <a:xfrm>
            <a:off x="493560" y="5000760"/>
            <a:ext cx="62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问题：说说你是怎样写的？（反馈与交流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9" name="TextBox 6"/>
          <p:cNvSpPr/>
          <p:nvPr/>
        </p:nvSpPr>
        <p:spPr>
          <a:xfrm>
            <a:off x="1071720" y="2357280"/>
            <a:ext cx="47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写出下面各数的倒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80" name="组合 23556"/>
          <p:cNvGrpSpPr/>
          <p:nvPr/>
        </p:nvGrpSpPr>
        <p:grpSpPr>
          <a:xfrm>
            <a:off x="1619280" y="3068640"/>
            <a:ext cx="4458960" cy="848520"/>
            <a:chOff x="1619280" y="3068640"/>
            <a:chExt cx="4458960" cy="848520"/>
          </a:xfrm>
        </p:grpSpPr>
        <p:grpSp>
          <p:nvGrpSpPr>
            <p:cNvPr id="1681" name="组合 23557"/>
            <p:cNvGrpSpPr/>
            <p:nvPr/>
          </p:nvGrpSpPr>
          <p:grpSpPr>
            <a:xfrm>
              <a:off x="2638440" y="3087720"/>
              <a:ext cx="587160" cy="815040"/>
              <a:chOff x="2638440" y="3087720"/>
              <a:chExt cx="587160" cy="815040"/>
            </a:xfrm>
          </p:grpSpPr>
          <p:sp>
            <p:nvSpPr>
              <p:cNvPr id="1682" name="文本框 23558"/>
              <p:cNvSpPr/>
              <p:nvPr/>
            </p:nvSpPr>
            <p:spPr>
              <a:xfrm>
                <a:off x="2720880" y="3443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3" name="文本框 23559"/>
              <p:cNvSpPr/>
              <p:nvPr/>
            </p:nvSpPr>
            <p:spPr>
              <a:xfrm>
                <a:off x="2638440" y="308772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4" name="直接连接符 23560"/>
              <p:cNvSpPr/>
              <p:nvPr/>
            </p:nvSpPr>
            <p:spPr>
              <a:xfrm>
                <a:off x="2701800" y="3506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85" name="组合 23561"/>
            <p:cNvGrpSpPr/>
            <p:nvPr/>
          </p:nvGrpSpPr>
          <p:grpSpPr>
            <a:xfrm>
              <a:off x="1619280" y="3068640"/>
              <a:ext cx="504720" cy="815040"/>
              <a:chOff x="1619280" y="3068640"/>
              <a:chExt cx="504720" cy="815040"/>
            </a:xfrm>
          </p:grpSpPr>
          <p:sp>
            <p:nvSpPr>
              <p:cNvPr id="1686" name="文本框 23562"/>
              <p:cNvSpPr/>
              <p:nvPr/>
            </p:nvSpPr>
            <p:spPr>
              <a:xfrm>
                <a:off x="1619280" y="3423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7" name="文本框 23563"/>
              <p:cNvSpPr/>
              <p:nvPr/>
            </p:nvSpPr>
            <p:spPr>
              <a:xfrm>
                <a:off x="1698480" y="3068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直接连接符 23564"/>
              <p:cNvSpPr/>
              <p:nvPr/>
            </p:nvSpPr>
            <p:spPr>
              <a:xfrm>
                <a:off x="1676160" y="34873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89" name="文本框 23565"/>
            <p:cNvSpPr/>
            <p:nvPr/>
          </p:nvSpPr>
          <p:spPr>
            <a:xfrm>
              <a:off x="3609720" y="32655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90" name="组合 23566"/>
            <p:cNvGrpSpPr/>
            <p:nvPr/>
          </p:nvGrpSpPr>
          <p:grpSpPr>
            <a:xfrm>
              <a:off x="4622760" y="3101760"/>
              <a:ext cx="504720" cy="815400"/>
              <a:chOff x="4622760" y="3101760"/>
              <a:chExt cx="504720" cy="815400"/>
            </a:xfrm>
          </p:grpSpPr>
          <p:sp>
            <p:nvSpPr>
              <p:cNvPr id="1691" name="文本框 23567"/>
              <p:cNvSpPr/>
              <p:nvPr/>
            </p:nvSpPr>
            <p:spPr>
              <a:xfrm>
                <a:off x="4622760" y="3457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2" name="文本框 23568"/>
              <p:cNvSpPr/>
              <p:nvPr/>
            </p:nvSpPr>
            <p:spPr>
              <a:xfrm>
                <a:off x="4626000" y="3101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3" name="直接连接符 23569"/>
              <p:cNvSpPr/>
              <p:nvPr/>
            </p:nvSpPr>
            <p:spPr>
              <a:xfrm>
                <a:off x="4632120" y="35208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94" name="组合 23570"/>
            <p:cNvGrpSpPr/>
            <p:nvPr/>
          </p:nvGrpSpPr>
          <p:grpSpPr>
            <a:xfrm>
              <a:off x="5573520" y="3078000"/>
              <a:ext cx="504720" cy="815400"/>
              <a:chOff x="5573520" y="3078000"/>
              <a:chExt cx="504720" cy="815400"/>
            </a:xfrm>
          </p:grpSpPr>
          <p:sp>
            <p:nvSpPr>
              <p:cNvPr id="1695" name="文本框 23571"/>
              <p:cNvSpPr/>
              <p:nvPr/>
            </p:nvSpPr>
            <p:spPr>
              <a:xfrm>
                <a:off x="5573520" y="3433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6" name="文本框 23572"/>
              <p:cNvSpPr/>
              <p:nvPr/>
            </p:nvSpPr>
            <p:spPr>
              <a:xfrm>
                <a:off x="5652720" y="3078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7" name="直接连接符 23573"/>
              <p:cNvSpPr/>
              <p:nvPr/>
            </p:nvSpPr>
            <p:spPr>
              <a:xfrm>
                <a:off x="5630400" y="34970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98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0" name="Rectangle 2"/>
          <p:cNvSpPr/>
          <p:nvPr/>
        </p:nvSpPr>
        <p:spPr>
          <a:xfrm>
            <a:off x="493560" y="5229360"/>
            <a:ext cx="62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连一连，说说你是怎样想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1" name="矩形 24579"/>
          <p:cNvSpPr/>
          <p:nvPr/>
        </p:nvSpPr>
        <p:spPr>
          <a:xfrm>
            <a:off x="2640960" y="155736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将互为倒数的两个数用线连起来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2" name="圆角矩形 24580"/>
          <p:cNvSpPr/>
          <p:nvPr/>
        </p:nvSpPr>
        <p:spPr>
          <a:xfrm>
            <a:off x="2716200" y="2363760"/>
            <a:ext cx="719280" cy="2664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79971">
                <a:moveTo>
                  <a:pt x="3600" y="0"/>
                </a:moveTo>
                <a:arcTo wR="3600" hR="3600" stAng="16200000" swAng="-5400000"/>
                <a:lnTo>
                  <a:pt x="0" y="76371"/>
                </a:lnTo>
                <a:arcTo wR="3600" hR="3600" stAng="10800000" swAng="-5400000"/>
                <a:lnTo>
                  <a:pt x="18000" y="79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3" name="圆角矩形 24581"/>
          <p:cNvSpPr/>
          <p:nvPr/>
        </p:nvSpPr>
        <p:spPr>
          <a:xfrm>
            <a:off x="1332000" y="2349360"/>
            <a:ext cx="718920" cy="2664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80011">
                <a:moveTo>
                  <a:pt x="3600" y="0"/>
                </a:moveTo>
                <a:arcTo wR="3600" hR="3600" stAng="16200000" swAng="-5400000"/>
                <a:lnTo>
                  <a:pt x="0" y="76411"/>
                </a:lnTo>
                <a:arcTo wR="3600" hR="3600" stAng="10800000" swAng="-5400000"/>
                <a:lnTo>
                  <a:pt x="18000" y="800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04" name="组合 24582"/>
          <p:cNvGrpSpPr/>
          <p:nvPr/>
        </p:nvGrpSpPr>
        <p:grpSpPr>
          <a:xfrm>
            <a:off x="1530360" y="4200480"/>
            <a:ext cx="511200" cy="815040"/>
            <a:chOff x="1530360" y="4200480"/>
            <a:chExt cx="511200" cy="815040"/>
          </a:xfrm>
        </p:grpSpPr>
        <p:sp>
          <p:nvSpPr>
            <p:cNvPr id="1705" name="文本框 24583"/>
            <p:cNvSpPr/>
            <p:nvPr/>
          </p:nvSpPr>
          <p:spPr>
            <a:xfrm>
              <a:off x="1536840" y="4555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6" name="文本框 24584"/>
            <p:cNvSpPr/>
            <p:nvPr/>
          </p:nvSpPr>
          <p:spPr>
            <a:xfrm>
              <a:off x="1530360" y="4200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7" name="直接连接符 24585"/>
            <p:cNvSpPr/>
            <p:nvPr/>
          </p:nvSpPr>
          <p:spPr>
            <a:xfrm>
              <a:off x="1546200" y="46195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8" name="组合 24586"/>
          <p:cNvGrpSpPr/>
          <p:nvPr/>
        </p:nvGrpSpPr>
        <p:grpSpPr>
          <a:xfrm>
            <a:off x="2846520" y="3279600"/>
            <a:ext cx="586800" cy="815400"/>
            <a:chOff x="2846520" y="3279600"/>
            <a:chExt cx="586800" cy="815400"/>
          </a:xfrm>
        </p:grpSpPr>
        <p:sp>
          <p:nvSpPr>
            <p:cNvPr id="1709" name="文本框 24587"/>
            <p:cNvSpPr/>
            <p:nvPr/>
          </p:nvSpPr>
          <p:spPr>
            <a:xfrm>
              <a:off x="2928600" y="3635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0" name="文本框 24588"/>
            <p:cNvSpPr/>
            <p:nvPr/>
          </p:nvSpPr>
          <p:spPr>
            <a:xfrm>
              <a:off x="2846520" y="327960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1" name="直接连接符 24589"/>
            <p:cNvSpPr/>
            <p:nvPr/>
          </p:nvSpPr>
          <p:spPr>
            <a:xfrm>
              <a:off x="2909520" y="3698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2" name="组合 24590"/>
          <p:cNvGrpSpPr/>
          <p:nvPr/>
        </p:nvGrpSpPr>
        <p:grpSpPr>
          <a:xfrm>
            <a:off x="1486080" y="2354400"/>
            <a:ext cx="504720" cy="815040"/>
            <a:chOff x="1486080" y="2354400"/>
            <a:chExt cx="504720" cy="815040"/>
          </a:xfrm>
        </p:grpSpPr>
        <p:sp>
          <p:nvSpPr>
            <p:cNvPr id="1713" name="文本框 24591"/>
            <p:cNvSpPr/>
            <p:nvPr/>
          </p:nvSpPr>
          <p:spPr>
            <a:xfrm>
              <a:off x="1486080" y="2709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4" name="文本框 24592"/>
            <p:cNvSpPr/>
            <p:nvPr/>
          </p:nvSpPr>
          <p:spPr>
            <a:xfrm>
              <a:off x="1575000" y="2354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5" name="直接连接符 24593"/>
            <p:cNvSpPr/>
            <p:nvPr/>
          </p:nvSpPr>
          <p:spPr>
            <a:xfrm>
              <a:off x="1552680" y="2773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6" name="组合 24594"/>
          <p:cNvGrpSpPr/>
          <p:nvPr/>
        </p:nvGrpSpPr>
        <p:grpSpPr>
          <a:xfrm>
            <a:off x="2913120" y="4178160"/>
            <a:ext cx="511200" cy="815040"/>
            <a:chOff x="2913120" y="4178160"/>
            <a:chExt cx="511200" cy="815040"/>
          </a:xfrm>
        </p:grpSpPr>
        <p:sp>
          <p:nvSpPr>
            <p:cNvPr id="1717" name="文本框 24595"/>
            <p:cNvSpPr/>
            <p:nvPr/>
          </p:nvSpPr>
          <p:spPr>
            <a:xfrm>
              <a:off x="2919600" y="4533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8" name="文本框 24596"/>
            <p:cNvSpPr/>
            <p:nvPr/>
          </p:nvSpPr>
          <p:spPr>
            <a:xfrm>
              <a:off x="2913120" y="4178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9" name="直接连接符 24597"/>
            <p:cNvSpPr/>
            <p:nvPr/>
          </p:nvSpPr>
          <p:spPr>
            <a:xfrm>
              <a:off x="2928960" y="45972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20" name="文本框 24598"/>
          <p:cNvSpPr/>
          <p:nvPr/>
        </p:nvSpPr>
        <p:spPr>
          <a:xfrm>
            <a:off x="1557360" y="3475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8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1" name="组合 24599"/>
          <p:cNvGrpSpPr/>
          <p:nvPr/>
        </p:nvGrpSpPr>
        <p:grpSpPr>
          <a:xfrm>
            <a:off x="2941560" y="2349360"/>
            <a:ext cx="511200" cy="815040"/>
            <a:chOff x="2941560" y="2349360"/>
            <a:chExt cx="511200" cy="815040"/>
          </a:xfrm>
        </p:grpSpPr>
        <p:sp>
          <p:nvSpPr>
            <p:cNvPr id="1722" name="文本框 24600"/>
            <p:cNvSpPr/>
            <p:nvPr/>
          </p:nvSpPr>
          <p:spPr>
            <a:xfrm>
              <a:off x="2948040" y="270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3" name="文本框 24601"/>
            <p:cNvSpPr/>
            <p:nvPr/>
          </p:nvSpPr>
          <p:spPr>
            <a:xfrm>
              <a:off x="2941560" y="234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4" name="直接连接符 24602"/>
            <p:cNvSpPr/>
            <p:nvPr/>
          </p:nvSpPr>
          <p:spPr>
            <a:xfrm>
              <a:off x="2957400" y="2768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25" name="圆角矩形 24603"/>
          <p:cNvSpPr/>
          <p:nvPr/>
        </p:nvSpPr>
        <p:spPr>
          <a:xfrm>
            <a:off x="5856120" y="2349360"/>
            <a:ext cx="719280" cy="2664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79971">
                <a:moveTo>
                  <a:pt x="3600" y="0"/>
                </a:moveTo>
                <a:arcTo wR="3600" hR="3600" stAng="16200000" swAng="-5400000"/>
                <a:lnTo>
                  <a:pt x="0" y="76371"/>
                </a:lnTo>
                <a:arcTo wR="3600" hR="3600" stAng="10800000" swAng="-5400000"/>
                <a:lnTo>
                  <a:pt x="18000" y="79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6" name="圆角矩形 24604"/>
          <p:cNvSpPr/>
          <p:nvPr/>
        </p:nvSpPr>
        <p:spPr>
          <a:xfrm>
            <a:off x="4500720" y="2349360"/>
            <a:ext cx="718920" cy="2664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80011">
                <a:moveTo>
                  <a:pt x="3600" y="0"/>
                </a:moveTo>
                <a:arcTo wR="3600" hR="3600" stAng="16200000" swAng="-5400000"/>
                <a:lnTo>
                  <a:pt x="0" y="76411"/>
                </a:lnTo>
                <a:arcTo wR="3600" hR="3600" stAng="10800000" swAng="-5400000"/>
                <a:lnTo>
                  <a:pt x="18000" y="800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7" name="组合 24605"/>
          <p:cNvGrpSpPr/>
          <p:nvPr/>
        </p:nvGrpSpPr>
        <p:grpSpPr>
          <a:xfrm>
            <a:off x="4626000" y="2354400"/>
            <a:ext cx="504720" cy="815040"/>
            <a:chOff x="4626000" y="2354400"/>
            <a:chExt cx="504720" cy="815040"/>
          </a:xfrm>
        </p:grpSpPr>
        <p:sp>
          <p:nvSpPr>
            <p:cNvPr id="1728" name="文本框 24606"/>
            <p:cNvSpPr/>
            <p:nvPr/>
          </p:nvSpPr>
          <p:spPr>
            <a:xfrm>
              <a:off x="4626000" y="2709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29" name="文本框 24607"/>
            <p:cNvSpPr/>
            <p:nvPr/>
          </p:nvSpPr>
          <p:spPr>
            <a:xfrm>
              <a:off x="4633560" y="235440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0" name="直接连接符 24608"/>
            <p:cNvSpPr/>
            <p:nvPr/>
          </p:nvSpPr>
          <p:spPr>
            <a:xfrm>
              <a:off x="4692600" y="27734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31" name="文本框 24609"/>
          <p:cNvSpPr/>
          <p:nvPr/>
        </p:nvSpPr>
        <p:spPr>
          <a:xfrm>
            <a:off x="4543560" y="345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32" name="组合 24610"/>
          <p:cNvGrpSpPr/>
          <p:nvPr/>
        </p:nvGrpSpPr>
        <p:grpSpPr>
          <a:xfrm>
            <a:off x="5905440" y="2349360"/>
            <a:ext cx="714600" cy="815400"/>
            <a:chOff x="5905440" y="2349360"/>
            <a:chExt cx="714600" cy="815400"/>
          </a:xfrm>
        </p:grpSpPr>
        <p:sp>
          <p:nvSpPr>
            <p:cNvPr id="1733" name="文本框 24611"/>
            <p:cNvSpPr/>
            <p:nvPr/>
          </p:nvSpPr>
          <p:spPr>
            <a:xfrm>
              <a:off x="5905440" y="2705040"/>
              <a:ext cx="7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4" name="文本框 24612"/>
            <p:cNvSpPr/>
            <p:nvPr/>
          </p:nvSpPr>
          <p:spPr>
            <a:xfrm>
              <a:off x="6062760" y="234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5" name="直接连接符 24613"/>
            <p:cNvSpPr/>
            <p:nvPr/>
          </p:nvSpPr>
          <p:spPr>
            <a:xfrm>
              <a:off x="6040440" y="2768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36" name="组合 24614"/>
          <p:cNvGrpSpPr/>
          <p:nvPr/>
        </p:nvGrpSpPr>
        <p:grpSpPr>
          <a:xfrm>
            <a:off x="5979960" y="3274920"/>
            <a:ext cx="505080" cy="815040"/>
            <a:chOff x="5979960" y="3274920"/>
            <a:chExt cx="505080" cy="815040"/>
          </a:xfrm>
        </p:grpSpPr>
        <p:sp>
          <p:nvSpPr>
            <p:cNvPr id="1737" name="文本框 24615"/>
            <p:cNvSpPr/>
            <p:nvPr/>
          </p:nvSpPr>
          <p:spPr>
            <a:xfrm>
              <a:off x="5979960" y="36302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8" name="文本框 24616"/>
            <p:cNvSpPr/>
            <p:nvPr/>
          </p:nvSpPr>
          <p:spPr>
            <a:xfrm>
              <a:off x="5987880" y="327492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39" name="直接连接符 24617"/>
            <p:cNvSpPr/>
            <p:nvPr/>
          </p:nvSpPr>
          <p:spPr>
            <a:xfrm>
              <a:off x="6046920" y="36939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0" name="组合 24618"/>
          <p:cNvGrpSpPr/>
          <p:nvPr/>
        </p:nvGrpSpPr>
        <p:grpSpPr>
          <a:xfrm>
            <a:off x="4629240" y="4164120"/>
            <a:ext cx="504720" cy="815040"/>
            <a:chOff x="4629240" y="4164120"/>
            <a:chExt cx="504720" cy="815040"/>
          </a:xfrm>
        </p:grpSpPr>
        <p:sp>
          <p:nvSpPr>
            <p:cNvPr id="1741" name="文本框 24619"/>
            <p:cNvSpPr/>
            <p:nvPr/>
          </p:nvSpPr>
          <p:spPr>
            <a:xfrm>
              <a:off x="4629240" y="4519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2" name="文本框 24620"/>
            <p:cNvSpPr/>
            <p:nvPr/>
          </p:nvSpPr>
          <p:spPr>
            <a:xfrm>
              <a:off x="4636800" y="416412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3" name="直接连接符 24621"/>
            <p:cNvSpPr/>
            <p:nvPr/>
          </p:nvSpPr>
          <p:spPr>
            <a:xfrm>
              <a:off x="4695840" y="458316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44" name="组合 24622"/>
          <p:cNvGrpSpPr/>
          <p:nvPr/>
        </p:nvGrpSpPr>
        <p:grpSpPr>
          <a:xfrm>
            <a:off x="5981760" y="4154400"/>
            <a:ext cx="504720" cy="815040"/>
            <a:chOff x="5981760" y="4154400"/>
            <a:chExt cx="504720" cy="815040"/>
          </a:xfrm>
        </p:grpSpPr>
        <p:sp>
          <p:nvSpPr>
            <p:cNvPr id="1745" name="文本框 24623"/>
            <p:cNvSpPr/>
            <p:nvPr/>
          </p:nvSpPr>
          <p:spPr>
            <a:xfrm>
              <a:off x="5981760" y="4509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6" name="文本框 24624"/>
            <p:cNvSpPr/>
            <p:nvPr/>
          </p:nvSpPr>
          <p:spPr>
            <a:xfrm>
              <a:off x="5989320" y="415440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7" name="直接连接符 24625"/>
            <p:cNvSpPr/>
            <p:nvPr/>
          </p:nvSpPr>
          <p:spPr>
            <a:xfrm>
              <a:off x="6048360" y="45734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矩形 25601"/>
          <p:cNvSpPr/>
          <p:nvPr/>
        </p:nvSpPr>
        <p:spPr>
          <a:xfrm>
            <a:off x="833400" y="1413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面的说法对不对？为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     与     的乘积为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所以      和     互为倒数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49" name="组合 25602"/>
          <p:cNvGrpSpPr/>
          <p:nvPr/>
        </p:nvGrpSpPr>
        <p:grpSpPr>
          <a:xfrm>
            <a:off x="1687680" y="1944720"/>
            <a:ext cx="504720" cy="815400"/>
            <a:chOff x="1687680" y="1944720"/>
            <a:chExt cx="504720" cy="815400"/>
          </a:xfrm>
        </p:grpSpPr>
        <p:sp>
          <p:nvSpPr>
            <p:cNvPr id="1750" name="文本框 25603"/>
            <p:cNvSpPr/>
            <p:nvPr/>
          </p:nvSpPr>
          <p:spPr>
            <a:xfrm>
              <a:off x="1687680" y="2300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1" name="文本框 25604"/>
            <p:cNvSpPr/>
            <p:nvPr/>
          </p:nvSpPr>
          <p:spPr>
            <a:xfrm>
              <a:off x="1776600" y="1944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2" name="直接连接符 25605"/>
            <p:cNvSpPr/>
            <p:nvPr/>
          </p:nvSpPr>
          <p:spPr>
            <a:xfrm>
              <a:off x="1754280" y="2363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53" name="组合 25606"/>
          <p:cNvGrpSpPr/>
          <p:nvPr/>
        </p:nvGrpSpPr>
        <p:grpSpPr>
          <a:xfrm>
            <a:off x="2316240" y="1951200"/>
            <a:ext cx="586800" cy="815040"/>
            <a:chOff x="2316240" y="1951200"/>
            <a:chExt cx="586800" cy="815040"/>
          </a:xfrm>
        </p:grpSpPr>
        <p:sp>
          <p:nvSpPr>
            <p:cNvPr id="1754" name="文本框 25607"/>
            <p:cNvSpPr/>
            <p:nvPr/>
          </p:nvSpPr>
          <p:spPr>
            <a:xfrm>
              <a:off x="2398320" y="2306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5" name="文本框 25608"/>
            <p:cNvSpPr/>
            <p:nvPr/>
          </p:nvSpPr>
          <p:spPr>
            <a:xfrm>
              <a:off x="2316240" y="195120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6" name="直接连接符 25609"/>
            <p:cNvSpPr/>
            <p:nvPr/>
          </p:nvSpPr>
          <p:spPr>
            <a:xfrm>
              <a:off x="2379240" y="23698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57" name="组合 25610"/>
          <p:cNvGrpSpPr/>
          <p:nvPr/>
        </p:nvGrpSpPr>
        <p:grpSpPr>
          <a:xfrm>
            <a:off x="4648320" y="1946160"/>
            <a:ext cx="504720" cy="815400"/>
            <a:chOff x="4648320" y="1946160"/>
            <a:chExt cx="504720" cy="815400"/>
          </a:xfrm>
        </p:grpSpPr>
        <p:sp>
          <p:nvSpPr>
            <p:cNvPr id="1758" name="文本框 25611"/>
            <p:cNvSpPr/>
            <p:nvPr/>
          </p:nvSpPr>
          <p:spPr>
            <a:xfrm>
              <a:off x="4648320" y="23018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59" name="文本框 25612"/>
            <p:cNvSpPr/>
            <p:nvPr/>
          </p:nvSpPr>
          <p:spPr>
            <a:xfrm>
              <a:off x="4737240" y="1946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0" name="直接连接符 25613"/>
            <p:cNvSpPr/>
            <p:nvPr/>
          </p:nvSpPr>
          <p:spPr>
            <a:xfrm>
              <a:off x="4714920" y="23652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61" name="组合 25614"/>
          <p:cNvGrpSpPr/>
          <p:nvPr/>
        </p:nvGrpSpPr>
        <p:grpSpPr>
          <a:xfrm>
            <a:off x="5295960" y="1952640"/>
            <a:ext cx="586800" cy="815400"/>
            <a:chOff x="5295960" y="1952640"/>
            <a:chExt cx="586800" cy="815400"/>
          </a:xfrm>
        </p:grpSpPr>
        <p:sp>
          <p:nvSpPr>
            <p:cNvPr id="1762" name="文本框 25615"/>
            <p:cNvSpPr/>
            <p:nvPr/>
          </p:nvSpPr>
          <p:spPr>
            <a:xfrm>
              <a:off x="5378040" y="2308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3" name="文本框 25616"/>
            <p:cNvSpPr/>
            <p:nvPr/>
          </p:nvSpPr>
          <p:spPr>
            <a:xfrm>
              <a:off x="5295960" y="19526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4" name="直接连接符 25617"/>
            <p:cNvSpPr/>
            <p:nvPr/>
          </p:nvSpPr>
          <p:spPr>
            <a:xfrm>
              <a:off x="5358960" y="237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65" name="矩形 25618"/>
          <p:cNvSpPr/>
          <p:nvPr/>
        </p:nvSpPr>
        <p:spPr>
          <a:xfrm>
            <a:off x="1068480" y="3973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一个数的倒数一定比这个数小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66" name="组合 25619"/>
          <p:cNvGrpSpPr/>
          <p:nvPr/>
        </p:nvGrpSpPr>
        <p:grpSpPr>
          <a:xfrm>
            <a:off x="669600" y="2665440"/>
            <a:ext cx="7175160" cy="839160"/>
            <a:chOff x="669600" y="2665440"/>
            <a:chExt cx="7175160" cy="839160"/>
          </a:xfrm>
        </p:grpSpPr>
        <p:sp>
          <p:nvSpPr>
            <p:cNvPr id="1767" name="矩形 25620"/>
            <p:cNvSpPr/>
            <p:nvPr/>
          </p:nvSpPr>
          <p:spPr>
            <a:xfrm>
              <a:off x="669600" y="2851200"/>
              <a:ext cx="717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，所以   、   、  互为倒数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68" name="组合 25621"/>
            <p:cNvGrpSpPr/>
            <p:nvPr/>
          </p:nvGrpSpPr>
          <p:grpSpPr>
            <a:xfrm>
              <a:off x="1792440" y="2689200"/>
              <a:ext cx="2151000" cy="815400"/>
              <a:chOff x="1792440" y="2689200"/>
              <a:chExt cx="2151000" cy="815400"/>
            </a:xfrm>
          </p:grpSpPr>
          <p:sp>
            <p:nvSpPr>
              <p:cNvPr id="1769" name="Text Box 8"/>
              <p:cNvSpPr/>
              <p:nvPr/>
            </p:nvSpPr>
            <p:spPr>
              <a:xfrm>
                <a:off x="2089080" y="2921040"/>
                <a:ext cx="33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宋体"/>
                  </a:rPr>
                  <a:t>×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70" name="组合 25623"/>
              <p:cNvGrpSpPr/>
              <p:nvPr/>
            </p:nvGrpSpPr>
            <p:grpSpPr>
              <a:xfrm>
                <a:off x="2484360" y="2689200"/>
                <a:ext cx="504720" cy="815400"/>
                <a:chOff x="2484360" y="2689200"/>
                <a:chExt cx="504720" cy="815400"/>
              </a:xfrm>
            </p:grpSpPr>
            <p:sp>
              <p:nvSpPr>
                <p:cNvPr id="1771" name="文本框 25624"/>
                <p:cNvSpPr/>
                <p:nvPr/>
              </p:nvSpPr>
              <p:spPr>
                <a:xfrm>
                  <a:off x="2484360" y="3044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2" name="文本框 25625"/>
                <p:cNvSpPr/>
                <p:nvPr/>
              </p:nvSpPr>
              <p:spPr>
                <a:xfrm>
                  <a:off x="2487240" y="26892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3" name="直接连接符 25626"/>
                <p:cNvSpPr/>
                <p:nvPr/>
              </p:nvSpPr>
              <p:spPr>
                <a:xfrm>
                  <a:off x="2503080" y="31082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774" name="组合 25627"/>
              <p:cNvGrpSpPr/>
              <p:nvPr/>
            </p:nvGrpSpPr>
            <p:grpSpPr>
              <a:xfrm>
                <a:off x="1792440" y="2689200"/>
                <a:ext cx="504720" cy="815400"/>
                <a:chOff x="1792440" y="2689200"/>
                <a:chExt cx="504720" cy="815400"/>
              </a:xfrm>
            </p:grpSpPr>
            <p:sp>
              <p:nvSpPr>
                <p:cNvPr id="1775" name="文本框 25628"/>
                <p:cNvSpPr/>
                <p:nvPr/>
              </p:nvSpPr>
              <p:spPr>
                <a:xfrm>
                  <a:off x="1792440" y="3044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6" name="文本框 25629"/>
                <p:cNvSpPr/>
                <p:nvPr/>
              </p:nvSpPr>
              <p:spPr>
                <a:xfrm>
                  <a:off x="1795680" y="26892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7" name="直接连接符 25630"/>
                <p:cNvSpPr/>
                <p:nvPr/>
              </p:nvSpPr>
              <p:spPr>
                <a:xfrm>
                  <a:off x="1801800" y="31082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78" name="文本框 25631"/>
              <p:cNvSpPr/>
              <p:nvPr/>
            </p:nvSpPr>
            <p:spPr>
              <a:xfrm>
                <a:off x="2733840" y="283860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79" name="组合 25632"/>
              <p:cNvGrpSpPr/>
              <p:nvPr/>
            </p:nvGrpSpPr>
            <p:grpSpPr>
              <a:xfrm>
                <a:off x="3097080" y="2689200"/>
                <a:ext cx="504720" cy="815400"/>
                <a:chOff x="3097080" y="2689200"/>
                <a:chExt cx="504720" cy="815400"/>
              </a:xfrm>
            </p:grpSpPr>
            <p:sp>
              <p:nvSpPr>
                <p:cNvPr id="1780" name="文本框 25633"/>
                <p:cNvSpPr/>
                <p:nvPr/>
              </p:nvSpPr>
              <p:spPr>
                <a:xfrm>
                  <a:off x="3097080" y="30448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81" name="文本框 25634"/>
                <p:cNvSpPr/>
                <p:nvPr/>
              </p:nvSpPr>
              <p:spPr>
                <a:xfrm>
                  <a:off x="3099960" y="26892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82" name="直接连接符 25635"/>
                <p:cNvSpPr/>
                <p:nvPr/>
              </p:nvSpPr>
              <p:spPr>
                <a:xfrm>
                  <a:off x="3115800" y="31082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783" name="文本框 25636"/>
              <p:cNvSpPr/>
              <p:nvPr/>
            </p:nvSpPr>
            <p:spPr>
              <a:xfrm>
                <a:off x="3348000" y="2836800"/>
                <a:ext cx="59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84" name="组合 25637"/>
            <p:cNvGrpSpPr/>
            <p:nvPr/>
          </p:nvGrpSpPr>
          <p:grpSpPr>
            <a:xfrm>
              <a:off x="4730760" y="2670120"/>
              <a:ext cx="504720" cy="815400"/>
              <a:chOff x="4730760" y="2670120"/>
              <a:chExt cx="504720" cy="815400"/>
            </a:xfrm>
          </p:grpSpPr>
          <p:sp>
            <p:nvSpPr>
              <p:cNvPr id="1785" name="文本框 25638"/>
              <p:cNvSpPr/>
              <p:nvPr/>
            </p:nvSpPr>
            <p:spPr>
              <a:xfrm>
                <a:off x="4730760" y="302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6" name="文本框 25639"/>
              <p:cNvSpPr/>
              <p:nvPr/>
            </p:nvSpPr>
            <p:spPr>
              <a:xfrm>
                <a:off x="4734000" y="2670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7" name="直接连接符 25640"/>
              <p:cNvSpPr/>
              <p:nvPr/>
            </p:nvSpPr>
            <p:spPr>
              <a:xfrm>
                <a:off x="4740120" y="3089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88" name="组合 25641"/>
            <p:cNvGrpSpPr/>
            <p:nvPr/>
          </p:nvGrpSpPr>
          <p:grpSpPr>
            <a:xfrm>
              <a:off x="5305680" y="2670120"/>
              <a:ext cx="504720" cy="815400"/>
              <a:chOff x="5305680" y="2670120"/>
              <a:chExt cx="504720" cy="815400"/>
            </a:xfrm>
          </p:grpSpPr>
          <p:sp>
            <p:nvSpPr>
              <p:cNvPr id="1789" name="文本框 25642"/>
              <p:cNvSpPr/>
              <p:nvPr/>
            </p:nvSpPr>
            <p:spPr>
              <a:xfrm>
                <a:off x="5305680" y="302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0" name="文本框 25643"/>
              <p:cNvSpPr/>
              <p:nvPr/>
            </p:nvSpPr>
            <p:spPr>
              <a:xfrm>
                <a:off x="5308560" y="2670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1" name="直接连接符 25644"/>
              <p:cNvSpPr/>
              <p:nvPr/>
            </p:nvSpPr>
            <p:spPr>
              <a:xfrm>
                <a:off x="5324400" y="3089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92" name="组合 25645"/>
            <p:cNvGrpSpPr/>
            <p:nvPr/>
          </p:nvGrpSpPr>
          <p:grpSpPr>
            <a:xfrm>
              <a:off x="5888160" y="2665440"/>
              <a:ext cx="504720" cy="815040"/>
              <a:chOff x="5888160" y="2665440"/>
              <a:chExt cx="504720" cy="815040"/>
            </a:xfrm>
          </p:grpSpPr>
          <p:sp>
            <p:nvSpPr>
              <p:cNvPr id="1793" name="文本框 25646"/>
              <p:cNvSpPr/>
              <p:nvPr/>
            </p:nvSpPr>
            <p:spPr>
              <a:xfrm>
                <a:off x="5888160" y="3020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4" name="文本框 25647"/>
              <p:cNvSpPr/>
              <p:nvPr/>
            </p:nvSpPr>
            <p:spPr>
              <a:xfrm>
                <a:off x="5891040" y="2665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5" name="直接连接符 25648"/>
              <p:cNvSpPr/>
              <p:nvPr/>
            </p:nvSpPr>
            <p:spPr>
              <a:xfrm>
                <a:off x="5906880" y="30841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96" name="矩形 25649"/>
          <p:cNvSpPr/>
          <p:nvPr/>
        </p:nvSpPr>
        <p:spPr>
          <a:xfrm>
            <a:off x="1312200" y="350028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倒数还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2"/>
          <p:cNvSpPr/>
          <p:nvPr/>
        </p:nvSpPr>
        <p:spPr>
          <a:xfrm>
            <a:off x="414360" y="4357800"/>
            <a:ext cx="8825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你认为谁说得对，说明你的理由。（小红说得对。乘积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两个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数就互为倒数，这两个数可以是分数，也可以是小数或整数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99" name="图片 26626" descr="29"/>
          <p:cNvPicPr/>
          <p:nvPr/>
        </p:nvPicPr>
        <p:blipFill>
          <a:blip r:embed="rId1"/>
          <a:stretch/>
        </p:blipFill>
        <p:spPr>
          <a:xfrm>
            <a:off x="684360" y="2205000"/>
            <a:ext cx="7553160" cy="1800360"/>
          </a:xfrm>
          <a:prstGeom prst="rect">
            <a:avLst/>
          </a:prstGeom>
          <a:ln w="0">
            <a:noFill/>
          </a:ln>
        </p:spPr>
      </p:pic>
      <p:sp>
        <p:nvSpPr>
          <p:cNvPr id="1800" name="矩形 26627"/>
          <p:cNvSpPr/>
          <p:nvPr/>
        </p:nvSpPr>
        <p:spPr>
          <a:xfrm>
            <a:off x="828720" y="15606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红和小亮谁说得对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32Z</dcterms:modified>
  <cp:revision>3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